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.png" ContentType="image/pn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  <p:sldId id="330" r:id="rId83"/>
    <p:sldId id="331" r:id="rId84"/>
    <p:sldId id="332" r:id="rId85"/>
    <p:sldId id="333" r:id="rId86"/>
    <p:sldId id="334" r:id="rId87"/>
    <p:sldId id="335" r:id="rId88"/>
    <p:sldId id="336" r:id="rId89"/>
    <p:sldId id="337" r:id="rId90"/>
    <p:sldId id="338" r:id="rId91"/>
    <p:sldId id="339" r:id="rId92"/>
    <p:sldId id="340" r:id="rId93"/>
    <p:sldId id="341" r:id="rId94"/>
    <p:sldId id="342" r:id="rId95"/>
    <p:sldId id="343" r:id="rId96"/>
    <p:sldId id="344" r:id="rId97"/>
    <p:sldId id="345" r:id="rId98"/>
    <p:sldId id="346" r:id="rId99"/>
    <p:sldId id="347" r:id="rId100"/>
    <p:sldId id="348" r:id="rId10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slide" Target="slides/slide75.xml"/><Relationship Id="rId84" Type="http://schemas.openxmlformats.org/officeDocument/2006/relationships/slide" Target="slides/slide76.xml"/><Relationship Id="rId85" Type="http://schemas.openxmlformats.org/officeDocument/2006/relationships/slide" Target="slides/slide77.xml"/><Relationship Id="rId86" Type="http://schemas.openxmlformats.org/officeDocument/2006/relationships/slide" Target="slides/slide78.xml"/><Relationship Id="rId87" Type="http://schemas.openxmlformats.org/officeDocument/2006/relationships/slide" Target="slides/slide79.xml"/><Relationship Id="rId88" Type="http://schemas.openxmlformats.org/officeDocument/2006/relationships/slide" Target="slides/slide80.xml"/><Relationship Id="rId89" Type="http://schemas.openxmlformats.org/officeDocument/2006/relationships/slide" Target="slides/slide81.xml"/><Relationship Id="rId90" Type="http://schemas.openxmlformats.org/officeDocument/2006/relationships/slide" Target="slides/slide82.xml"/><Relationship Id="rId91" Type="http://schemas.openxmlformats.org/officeDocument/2006/relationships/slide" Target="slides/slide83.xml"/><Relationship Id="rId92" Type="http://schemas.openxmlformats.org/officeDocument/2006/relationships/slide" Target="slides/slide84.xml"/><Relationship Id="rId93" Type="http://schemas.openxmlformats.org/officeDocument/2006/relationships/slide" Target="slides/slide85.xml"/><Relationship Id="rId94" Type="http://schemas.openxmlformats.org/officeDocument/2006/relationships/slide" Target="slides/slide86.xml"/><Relationship Id="rId95" Type="http://schemas.openxmlformats.org/officeDocument/2006/relationships/slide" Target="slides/slide87.xml"/><Relationship Id="rId96" Type="http://schemas.openxmlformats.org/officeDocument/2006/relationships/slide" Target="slides/slide88.xml"/><Relationship Id="rId97" Type="http://schemas.openxmlformats.org/officeDocument/2006/relationships/slide" Target="slides/slide89.xml"/><Relationship Id="rId98" Type="http://schemas.openxmlformats.org/officeDocument/2006/relationships/slide" Target="slides/slide90.xml"/><Relationship Id="rId99" Type="http://schemas.openxmlformats.org/officeDocument/2006/relationships/slide" Target="slides/slide91.xml"/><Relationship Id="rId100" Type="http://schemas.openxmlformats.org/officeDocument/2006/relationships/slide" Target="slides/slide92.xml"/><Relationship Id="rId101" Type="http://schemas.openxmlformats.org/officeDocument/2006/relationships/slide" Target="slides/slide93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4FB4-BEAE-4D42-B08C-023349C4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9B11-E69E-4A14-A485-DC4E9820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0B7-9FAE-4C1A-9C56-02F43037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2572-F600-41CB-BFD4-68B8CE02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EFDF-69BB-4EE9-B477-A5526CC42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13D2-63C9-4F59-98F6-97217333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C86B-6AA8-438E-822B-9949862C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6DFD-5F26-4CD6-8C13-CC228691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067F-B949-441B-8855-3EFD19DC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6938-1DEE-426E-B44B-2F8ED84F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F022-55B8-4075-9A14-A08EDF31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82C2-8F8E-44D1-9B1B-14684DB0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46ED-D9B0-410D-A122-F6A8D342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8CAB-F09D-4638-88A7-F63F58F1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2945-E47C-47E9-BA70-91716406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E6D8-0AAD-48FE-9CC8-C73933C8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788D-F915-4071-9E4D-37B86ECA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CFEBD-CB3C-44A8-87B9-82995450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CBBA5-55CA-433A-B72A-149CF8D8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952D0-A919-4847-9186-18185175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A0077-E048-479D-B606-1035A317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38FC9-803B-46D9-BE53-D265D28B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1A93-B637-4669-8E0C-F33B9F6A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93F51-E1E5-4CC9-84C2-547186A1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2136D-530A-48BD-ABDD-ADC1810B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C2D3D-61FE-427A-83C0-B98977E5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A2761-9384-4A5A-A0CC-86BD8F92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E3BB7-6B29-41FB-8BD9-5EBE2290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1C2AE-92FB-44D1-9F96-83ACAD41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9C03C-9DC1-49B7-8647-A17FBF04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E7B-2750-4659-82DA-17D8E5D3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CE5ED-771F-47C4-8FC9-180C664E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B3AC-F51C-4527-A4AB-5687F561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7FC05-E3E1-4CE2-AACD-5B53078F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FE57D-7F9D-4985-91BF-0B638AE6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B344C-C5C1-4D58-9018-5AA84903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C2B44-F677-4600-86BC-0240ABB7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6AA2F-87D4-43E0-B7D2-FBB1B8FC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FF630-4FB4-42E1-B7D1-1015B107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1F7BD-AB16-4DF9-B99F-29E9B4CB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D150C-5222-48BA-844E-604DC752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813DE-1697-4956-8E9F-5D64B643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7DDFA-988F-4A19-B576-F4BA6349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2177-80A2-44CD-914F-F3B49629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32CD1-A7A0-4202-B18F-74E75A70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1B18C-7FFC-49F1-A016-9870504E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85132-79E0-4AC9-BF9D-21DFC587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78C76-AB89-4267-8CF2-84CF3C42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0379F-3F2D-418C-82C7-E0252C26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A3882-5127-4F31-B337-240D8F51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C6F63-092E-4774-B2BE-5B1BFA85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52A89-9B57-4E5F-8558-1272E31E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8D24B-2221-47A2-93AA-30DB6482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B4025-DB31-4DE0-9F01-53A18E79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E1B-B869-4ED5-9607-C6310A35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61465-93AB-4E3A-9425-5A6B3632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77310-4D0E-478B-A3B6-5F675D8F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06D68-79E9-4132-9BCD-6FEC9D94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E9DF9-7D12-4B17-A54F-C4759A49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B6267-FEE3-4D93-B57B-7DD6536C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A3D8B-CF7F-42BF-AA00-739194C8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E5420-253C-4978-ADE5-F9AF243C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869D5-35E6-4365-BA74-CC946826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49294-C808-4E2A-BEA3-7B1C6C9C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D68E8-68B1-411E-BF80-B7524818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BC42-9F38-4792-8DA8-39D7BB7C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97481-CB1B-4D33-A108-05F955CE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005B0-9ABE-45EC-B292-E737B08C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2C63C-A474-4120-B7F9-374C406E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D6BDF-9E33-4A09-ACA4-9FA18CB5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5BAC2-F997-48DB-ADB1-3A7AB9FF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5A28-835E-4DA4-8138-482F6A03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AF95-CA1A-4434-B6C9-52896800307D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42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62BB-B0A7-4FCD-A4E7-C9DDB7D6E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54EC-485D-4E09-A145-F71DFB0180F3}" type="slidenum">
              <a:rPr b="0" lang="en-N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0" y="678168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685800" y="2209680"/>
            <a:ext cx="7848720" cy="388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0" y="3240"/>
            <a:ext cx="152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9067680" y="0"/>
            <a:ext cx="0" cy="6858000"/>
          </a:xfrm>
          <a:prstGeom prst="line">
            <a:avLst/>
          </a:prstGeom>
          <a:ln w="442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194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5297-EA69-447A-BA0A-93F17206F68D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258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1703-6667-40B2-9AA2-4C16D5758990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6290-058D-4959-98E4-9B679BB86208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tistics and Modelling 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447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228240" y="9903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0" y="380880"/>
            <a:ext cx="9144000" cy="656892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4 requirements for using the Binomial Distribu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(1.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Fixed number, 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of identical tri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(2.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2 Possible Outcomes for each trial (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succes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failur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(3.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rials are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(4.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Probability of success,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is the same for each t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Comic Sans MS"/>
              </a:rPr>
              <a:t>HINT:  Use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In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</a:rPr>
              <a:t>ternational 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</a:rPr>
              <a:t>ight  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</a:rPr>
              <a:t>lub 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300" spc="-1" strike="noStrike">
                <a:solidFill>
                  <a:srgbClr val="333399"/>
                </a:solidFill>
                <a:latin typeface="Comic Sans MS"/>
              </a:rPr>
              <a:t>E.g. Experiment: Drawing cards from a pack of 52 </a:t>
            </a:r>
            <a:r>
              <a:rPr b="1" i="1" lang="en-NZ" sz="2300" spc="-1" strike="noStrike">
                <a:solidFill>
                  <a:srgbClr val="333399"/>
                </a:solidFill>
                <a:latin typeface="Comic Sans MS"/>
              </a:rPr>
              <a:t>with</a:t>
            </a:r>
            <a:r>
              <a:rPr b="1" lang="en-NZ" sz="2300" spc="-1" strike="noStrike">
                <a:solidFill>
                  <a:srgbClr val="333399"/>
                </a:solidFill>
                <a:latin typeface="Comic Sans MS"/>
              </a:rPr>
              <a:t> replacemen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4 trials by each class-member (</a:t>
            </a:r>
            <a:r>
              <a:rPr b="0" i="1" lang="en-NZ" sz="2300" spc="-1" strike="noStrike">
                <a:solidFill>
                  <a:srgbClr val="333399"/>
                </a:solidFill>
                <a:latin typeface="Comic Sans MS"/>
              </a:rPr>
              <a:t>with</a:t>
            </a: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 replacement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1 Trial:  Drawing a card on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2 Outcomes for each trial: </a:t>
            </a:r>
            <a:r>
              <a:rPr b="1" lang="en-NZ" sz="2300" spc="-1" strike="noStrike" u="sng">
                <a:solidFill>
                  <a:srgbClr val="ff0000"/>
                </a:solidFill>
                <a:uFillTx/>
                <a:latin typeface="Comic Sans MS"/>
              </a:rPr>
              <a:t>heart</a:t>
            </a: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 or </a:t>
            </a:r>
            <a:r>
              <a:rPr b="1" lang="en-NZ" sz="2300" spc="-1" strike="noStrike" u="sng">
                <a:solidFill>
                  <a:srgbClr val="0000ff"/>
                </a:solidFill>
                <a:uFillTx/>
                <a:latin typeface="Comic Sans MS"/>
              </a:rPr>
              <a:t>not a heart</a:t>
            </a: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Discrete random variable </a:t>
            </a:r>
            <a:r>
              <a:rPr b="1" i="1" lang="en-NZ" sz="25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: The number of hearts, </a:t>
            </a:r>
            <a:r>
              <a:rPr b="1" i="1" lang="en-NZ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, drawn in the 4 independent tria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Winner: The person who draws the most hear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228240" y="9903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0" y="681120"/>
            <a:ext cx="9144000" cy="666756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300" spc="-1" strike="noStrike">
                <a:solidFill>
                  <a:srgbClr val="333399"/>
                </a:solidFill>
                <a:latin typeface="Comic Sans MS"/>
              </a:rPr>
              <a:t>E.g. Experiment: Drawing cards from a pack of 52 </a:t>
            </a:r>
            <a:r>
              <a:rPr b="1" i="1" lang="en-NZ" sz="2300" spc="-1" strike="noStrike">
                <a:solidFill>
                  <a:srgbClr val="333399"/>
                </a:solidFill>
                <a:latin typeface="Comic Sans MS"/>
              </a:rPr>
              <a:t>with</a:t>
            </a:r>
            <a:r>
              <a:rPr b="1" lang="en-NZ" sz="2300" spc="-1" strike="noStrike">
                <a:solidFill>
                  <a:srgbClr val="333399"/>
                </a:solidFill>
                <a:latin typeface="Comic Sans MS"/>
              </a:rPr>
              <a:t> replacemen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4 trials by each class-member (</a:t>
            </a:r>
            <a:r>
              <a:rPr b="0" i="1" lang="en-NZ" sz="2300" spc="-1" strike="noStrike">
                <a:solidFill>
                  <a:srgbClr val="333399"/>
                </a:solidFill>
                <a:latin typeface="Comic Sans MS"/>
              </a:rPr>
              <a:t>with</a:t>
            </a: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 replacement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1 Trial:  Drawing a card on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2 Outcomes for each trial: </a:t>
            </a:r>
            <a:r>
              <a:rPr b="1" lang="en-NZ" sz="2300" spc="-1" strike="noStrike" u="sng">
                <a:solidFill>
                  <a:srgbClr val="ff0000"/>
                </a:solidFill>
                <a:uFillTx/>
                <a:latin typeface="Comic Sans MS"/>
              </a:rPr>
              <a:t>heart</a:t>
            </a: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 or </a:t>
            </a:r>
            <a:r>
              <a:rPr b="1" lang="en-NZ" sz="2300" spc="-1" strike="noStrike" u="sng">
                <a:solidFill>
                  <a:srgbClr val="0000ff"/>
                </a:solidFill>
                <a:uFillTx/>
                <a:latin typeface="Comic Sans MS"/>
              </a:rPr>
              <a:t>not a heart</a:t>
            </a: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Discrete random variable </a:t>
            </a:r>
            <a:r>
              <a:rPr b="1" i="1" lang="en-NZ" sz="25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: The number of hearts, </a:t>
            </a:r>
            <a:r>
              <a:rPr b="1" i="1" lang="en-NZ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, drawn in the 4 independent tria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Winner: The person who draws the most hear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Success: Drawing a hear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P(success)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= 0.25.  </a:t>
            </a:r>
            <a:r>
              <a:rPr b="0" i="1" lang="en-NZ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P(failure)    = 0.75.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28240" y="9903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0" y="681120"/>
            <a:ext cx="9144000" cy="666756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300" spc="-1" strike="noStrike">
                <a:solidFill>
                  <a:srgbClr val="333399"/>
                </a:solidFill>
                <a:latin typeface="Comic Sans MS"/>
              </a:rPr>
              <a:t>E.g. Experiment: Drawing cards from a pack of 52 </a:t>
            </a:r>
            <a:r>
              <a:rPr b="1" i="1" lang="en-NZ" sz="2300" spc="-1" strike="noStrike">
                <a:solidFill>
                  <a:srgbClr val="333399"/>
                </a:solidFill>
                <a:latin typeface="Comic Sans MS"/>
              </a:rPr>
              <a:t>with</a:t>
            </a:r>
            <a:r>
              <a:rPr b="1" lang="en-NZ" sz="2300" spc="-1" strike="noStrike">
                <a:solidFill>
                  <a:srgbClr val="333399"/>
                </a:solidFill>
                <a:latin typeface="Comic Sans MS"/>
              </a:rPr>
              <a:t> replacemen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4 trials by each class-member (</a:t>
            </a:r>
            <a:r>
              <a:rPr b="0" i="1" lang="en-NZ" sz="2300" spc="-1" strike="noStrike">
                <a:solidFill>
                  <a:srgbClr val="333399"/>
                </a:solidFill>
                <a:latin typeface="Comic Sans MS"/>
              </a:rPr>
              <a:t>with</a:t>
            </a: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 replacement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1 Trial:  Drawing a card on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2 Outcomes for each trial: </a:t>
            </a:r>
            <a:r>
              <a:rPr b="1" lang="en-NZ" sz="2300" spc="-1" strike="noStrike" u="sng">
                <a:solidFill>
                  <a:srgbClr val="ff0000"/>
                </a:solidFill>
                <a:uFillTx/>
                <a:latin typeface="Comic Sans MS"/>
              </a:rPr>
              <a:t>heart</a:t>
            </a: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 or </a:t>
            </a:r>
            <a:r>
              <a:rPr b="1" lang="en-NZ" sz="2300" spc="-1" strike="noStrike" u="sng">
                <a:solidFill>
                  <a:srgbClr val="0000ff"/>
                </a:solidFill>
                <a:uFillTx/>
                <a:latin typeface="Comic Sans MS"/>
              </a:rPr>
              <a:t>not a heart</a:t>
            </a: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Discrete random variable </a:t>
            </a:r>
            <a:r>
              <a:rPr b="1" i="1" lang="en-NZ" sz="25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: The number of hearts, </a:t>
            </a:r>
            <a:r>
              <a:rPr b="1" i="1" lang="en-NZ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, drawn in the 4 independent tria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Winner: The person who draws the most hear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Success: Drawing a hear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P(success)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= 0.25.  </a:t>
            </a:r>
            <a:r>
              <a:rPr b="0" i="1" lang="en-NZ" sz="2400" spc="-1" strike="noStrike">
                <a:solidFill>
                  <a:srgbClr val="ff0000"/>
                </a:solidFill>
                <a:latin typeface="Comic Sans MS"/>
              </a:rPr>
              <a:t>We use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”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NZ" sz="2400" spc="-1" strike="noStrike">
                <a:solidFill>
                  <a:srgbClr val="ff0000"/>
                </a:solidFill>
                <a:latin typeface="Comic Sans MS"/>
              </a:rPr>
              <a:t>to represent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P(Suc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P(failure)    = 0.75.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228240" y="9903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0" y="681120"/>
            <a:ext cx="9144000" cy="666756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300" spc="-1" strike="noStrike">
                <a:solidFill>
                  <a:srgbClr val="333399"/>
                </a:solidFill>
                <a:latin typeface="Comic Sans MS"/>
              </a:rPr>
              <a:t>E.g. Experiment: Drawing cards from a pack of 52 </a:t>
            </a:r>
            <a:r>
              <a:rPr b="1" i="1" lang="en-NZ" sz="2300" spc="-1" strike="noStrike">
                <a:solidFill>
                  <a:srgbClr val="333399"/>
                </a:solidFill>
                <a:latin typeface="Comic Sans MS"/>
              </a:rPr>
              <a:t>with</a:t>
            </a:r>
            <a:r>
              <a:rPr b="1" lang="en-NZ" sz="2300" spc="-1" strike="noStrike">
                <a:solidFill>
                  <a:srgbClr val="333399"/>
                </a:solidFill>
                <a:latin typeface="Comic Sans MS"/>
              </a:rPr>
              <a:t> replacemen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4 trials by each class-member (</a:t>
            </a:r>
            <a:r>
              <a:rPr b="0" i="1" lang="en-NZ" sz="2300" spc="-1" strike="noStrike">
                <a:solidFill>
                  <a:srgbClr val="333399"/>
                </a:solidFill>
                <a:latin typeface="Comic Sans MS"/>
              </a:rPr>
              <a:t>with</a:t>
            </a: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 replacement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1 Trial:  Drawing a card on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2 Outcomes for each trial: </a:t>
            </a:r>
            <a:r>
              <a:rPr b="1" lang="en-NZ" sz="2300" spc="-1" strike="noStrike" u="sng">
                <a:solidFill>
                  <a:srgbClr val="ff0000"/>
                </a:solidFill>
                <a:uFillTx/>
                <a:latin typeface="Comic Sans MS"/>
              </a:rPr>
              <a:t>heart</a:t>
            </a: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 or </a:t>
            </a:r>
            <a:r>
              <a:rPr b="1" lang="en-NZ" sz="2300" spc="-1" strike="noStrike" u="sng">
                <a:solidFill>
                  <a:srgbClr val="0000ff"/>
                </a:solidFill>
                <a:uFillTx/>
                <a:latin typeface="Comic Sans MS"/>
              </a:rPr>
              <a:t>not a heart</a:t>
            </a: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Discrete random variable </a:t>
            </a:r>
            <a:r>
              <a:rPr b="1" i="1" lang="en-NZ" sz="25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: The number of hearts, </a:t>
            </a:r>
            <a:r>
              <a:rPr b="1" i="1" lang="en-NZ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, drawn in the 4 independent tria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Winner: The person who draws the most hear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Success: Drawing a hear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P(success)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= 0.25.  </a:t>
            </a:r>
            <a:r>
              <a:rPr b="0" i="1" lang="en-NZ" sz="2400" spc="-1" strike="noStrike">
                <a:solidFill>
                  <a:srgbClr val="ff0000"/>
                </a:solidFill>
                <a:latin typeface="Comic Sans MS"/>
              </a:rPr>
              <a:t>We use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”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NZ" sz="2400" spc="-1" strike="noStrike">
                <a:solidFill>
                  <a:srgbClr val="ff0000"/>
                </a:solidFill>
                <a:latin typeface="Comic Sans MS"/>
              </a:rPr>
              <a:t>to represent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P(Suc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P(failure)    = 0.75.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</a:rPr>
              <a:t>We use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1- </a:t>
            </a:r>
            <a:r>
              <a:rPr b="1" i="1" lang="el-GR" sz="2400" spc="-1" strike="noStrike">
                <a:solidFill>
                  <a:srgbClr val="0000ff"/>
                </a:solidFill>
                <a:latin typeface="Times New Roman"/>
              </a:rPr>
              <a:t>π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” to represent 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P(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Discrete random variable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: The number of hearts,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, drawn in the 4 independent tr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Winner: The person who draws the most he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uccess: Drawing a he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P(success)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= 0.25.  </a:t>
            </a:r>
            <a:r>
              <a:rPr b="0" i="1" lang="en-NZ" sz="2400" spc="-1" strike="noStrike">
                <a:solidFill>
                  <a:srgbClr val="ff0000"/>
                </a:solidFill>
                <a:latin typeface="Comic Sans MS"/>
              </a:rPr>
              <a:t>We use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”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NZ" sz="2400" spc="-1" strike="noStrike">
                <a:solidFill>
                  <a:srgbClr val="ff0000"/>
                </a:solidFill>
                <a:latin typeface="Comic Sans MS"/>
              </a:rPr>
              <a:t>to represent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P(Suc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P(failure)    = 0.75.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</a:rPr>
              <a:t>We use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1- </a:t>
            </a:r>
            <a:r>
              <a:rPr b="1" i="1" lang="el-GR" sz="2400" spc="-1" strike="noStrike">
                <a:solidFill>
                  <a:srgbClr val="0000ff"/>
                </a:solidFill>
                <a:latin typeface="Times New Roman"/>
              </a:rPr>
              <a:t>π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” to represent 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P(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Q. What is the probability, in theory, that exactly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three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of the 4 cards that you draw will be hear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Well, the probability that the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first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3 are hearts and the other 1 is not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UT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4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228240" y="304560"/>
            <a:ext cx="8915400" cy="65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Winner: The person who draws the most he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uccess: Drawing a he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P(success)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= 0.25.  </a:t>
            </a:r>
            <a:r>
              <a:rPr b="0" i="1" lang="en-NZ" sz="2400" spc="-1" strike="noStrike">
                <a:solidFill>
                  <a:srgbClr val="ff0000"/>
                </a:solidFill>
                <a:latin typeface="Comic Sans MS"/>
              </a:rPr>
              <a:t>We use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”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NZ" sz="2400" spc="-1" strike="noStrike">
                <a:solidFill>
                  <a:srgbClr val="ff0000"/>
                </a:solidFill>
                <a:latin typeface="Comic Sans MS"/>
              </a:rPr>
              <a:t>to represent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P(Suc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P(failure)    = 0.75.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</a:rPr>
              <a:t>We use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1- </a:t>
            </a:r>
            <a:r>
              <a:rPr b="1" i="1" lang="el-GR" sz="2400" spc="-1" strike="noStrike">
                <a:solidFill>
                  <a:srgbClr val="0000ff"/>
                </a:solidFill>
                <a:latin typeface="Times New Roman"/>
              </a:rPr>
              <a:t>π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” to represent 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P(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Q. What is the probability, in theory, that exactly three of the 4 cards that you draw will be hear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i.e. P(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X=3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Well, the probability that the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first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3 are hearts and the other 1 is not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UT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3 hearts can be selected in 4 different orders (</a:t>
            </a:r>
            <a:r>
              <a:rPr b="1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228240" y="533520"/>
            <a:ext cx="8915400" cy="63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Q. What is the probability, in theory, that exactly three of the 4 cards that you draw will be hear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Well, the probability that the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first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3 are hearts and the other 1 is not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UT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3 hearts can be selected in 4 different orders (</a:t>
            </a:r>
            <a:r>
              <a:rPr b="1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o P(X=3) =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0.2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.046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228240" y="-23760"/>
            <a:ext cx="8915400" cy="688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Q. What is the probability, in theory, that exactly three of the 4 cards that you draw will be hear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Well, the probability that the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first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3 are hearts and the other 1 is not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UT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3 hearts can be selected in 4 different orders (</a:t>
            </a:r>
            <a:r>
              <a:rPr b="1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o P(X=3) =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0.2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.046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: What is this saying about how often we would expect to get 3 hearts when running this experi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UT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3 hearts can be selected in 4 different orders (</a:t>
            </a:r>
            <a:r>
              <a:rPr b="1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o P(X=3) =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0.2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.046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: What is this saying about how often we would expect to get 3 hearts when running this experi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0" y="3973680"/>
            <a:ext cx="9144000" cy="3115440"/>
          </a:xfrm>
          <a:prstGeom prst="rect">
            <a:avLst/>
          </a:prstGeom>
          <a:solidFill>
            <a:srgbClr val="ff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4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Probability Distributions </a:t>
            </a:r>
            <a:r>
              <a:rPr b="1" i="1" lang="en-NZ" sz="40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chievement Standard 906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Solve Probability Distribution Models to solve straightforward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4 Cr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Externally Ass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NuLake Pages 278 </a:t>
            </a:r>
            <a:r>
              <a:rPr b="0" i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 3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UT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3 hearts can be selected in 4 different orders (</a:t>
            </a:r>
            <a:r>
              <a:rPr b="1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o P(X=3) =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0.2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.046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0" y="3973680"/>
            <a:ext cx="9144000" cy="3115440"/>
          </a:xfrm>
          <a:prstGeom prst="rect">
            <a:avLst/>
          </a:prstGeom>
          <a:solidFill>
            <a:srgbClr val="ff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We define the Binomial variable, 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, by 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UT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3 hearts can be selected in 4 different orders (</a:t>
            </a:r>
            <a:r>
              <a:rPr b="1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o P(X=3) =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0.2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.046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0" y="3973680"/>
            <a:ext cx="9144000" cy="3115440"/>
          </a:xfrm>
          <a:prstGeom prst="rect">
            <a:avLst/>
          </a:prstGeom>
          <a:solidFill>
            <a:srgbClr val="ff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We define the Binomial variable, 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, by 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    =    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UT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3 hearts can be selected in 4 different orders (</a:t>
            </a:r>
            <a:r>
              <a:rPr b="1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o P(X=3) =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0.2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.046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0" y="3973680"/>
            <a:ext cx="9144000" cy="3115440"/>
          </a:xfrm>
          <a:prstGeom prst="rect">
            <a:avLst/>
          </a:prstGeom>
          <a:solidFill>
            <a:srgbClr val="ff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We define the Binomial variable, 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, by 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    =    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(1–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1"/>
              <p:cNvSpPr txBox="1"/>
              <p:nvPr/>
            </p:nvSpPr>
            <p:spPr>
              <a:xfrm>
                <a:off x="2057400" y="4572000"/>
                <a:ext cx="900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UT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3 hearts can be selected in 4 different orders (</a:t>
            </a:r>
            <a:r>
              <a:rPr b="1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o P(X=3) =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0.2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.046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0" y="3973680"/>
            <a:ext cx="9144000" cy="3115440"/>
          </a:xfrm>
          <a:prstGeom prst="rect">
            <a:avLst/>
          </a:prstGeom>
          <a:solidFill>
            <a:srgbClr val="ff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We define the Binomial variable, 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, by 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    =    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(1–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is the number of 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su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1"/>
              <p:cNvSpPr txBox="1"/>
              <p:nvPr/>
            </p:nvSpPr>
            <p:spPr>
              <a:xfrm>
                <a:off x="2057400" y="4572000"/>
                <a:ext cx="900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UT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3 hearts can be selected in 4 different orders (</a:t>
            </a:r>
            <a:r>
              <a:rPr b="1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o P(X=3) =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0.2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.046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0" y="3973680"/>
            <a:ext cx="9144000" cy="2893320"/>
          </a:xfrm>
          <a:prstGeom prst="rect">
            <a:avLst/>
          </a:prstGeom>
          <a:solidFill>
            <a:srgbClr val="ff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We define the Binomial variable, 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, by 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    =    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(1–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is the number of 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successes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out of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independent trials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1"/>
              <p:cNvSpPr txBox="1"/>
              <p:nvPr/>
            </p:nvSpPr>
            <p:spPr>
              <a:xfrm>
                <a:off x="2057400" y="4572000"/>
                <a:ext cx="900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UT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3 hearts can be selected in 4 different orders (</a:t>
            </a:r>
            <a:r>
              <a:rPr b="1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o P(X=3) =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0.2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.046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0" y="3973680"/>
            <a:ext cx="9144000" cy="2893320"/>
          </a:xfrm>
          <a:prstGeom prst="rect">
            <a:avLst/>
          </a:prstGeom>
          <a:solidFill>
            <a:srgbClr val="ff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We define the Binomial variable, 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, by 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    =    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(1–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is the number of 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successes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out of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independent trials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is the probability of “success” in each </a:t>
            </a:r>
            <a:r>
              <a:rPr b="0" i="1" lang="en-NZ" sz="28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1"/>
              <p:cNvSpPr txBox="1"/>
              <p:nvPr/>
            </p:nvSpPr>
            <p:spPr>
              <a:xfrm>
                <a:off x="2057400" y="4572000"/>
                <a:ext cx="900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UT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3 hearts can be selected in 4 different orders (</a:t>
            </a:r>
            <a:r>
              <a:rPr b="1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o P(X=3) =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0.2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.046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0" y="3973680"/>
            <a:ext cx="9144000" cy="2893320"/>
          </a:xfrm>
          <a:prstGeom prst="rect">
            <a:avLst/>
          </a:prstGeom>
          <a:solidFill>
            <a:srgbClr val="ff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We define the Binomial variable, 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, by 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    =    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(1–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is the number of 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successes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out of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independent trials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is the probability of “success” in each </a:t>
            </a:r>
            <a:r>
              <a:rPr b="0" i="1" lang="en-NZ" sz="28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4"/>
              <p:cNvSpPr txBox="1"/>
              <p:nvPr/>
            </p:nvSpPr>
            <p:spPr>
              <a:xfrm>
                <a:off x="2362320" y="4495680"/>
                <a:ext cx="53316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UT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3 hearts can be selected in 4 different orders (</a:t>
            </a:r>
            <a:r>
              <a:rPr b="1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o P(X=3) =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0.2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.046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0" y="3973680"/>
            <a:ext cx="9144000" cy="2893320"/>
          </a:xfrm>
          <a:prstGeom prst="rect">
            <a:avLst/>
          </a:prstGeom>
          <a:solidFill>
            <a:srgbClr val="ff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We define the Binomial variable, 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, by 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    =    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(1–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is the number of 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successes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out of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independent trials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is the probability of “success” in each </a:t>
            </a:r>
            <a:r>
              <a:rPr b="0" i="1" lang="en-NZ" sz="28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Object 1"/>
              <p:cNvSpPr txBox="1"/>
              <p:nvPr/>
            </p:nvSpPr>
            <p:spPr>
              <a:xfrm>
                <a:off x="2057400" y="4572000"/>
                <a:ext cx="900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o P(X=3) =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0.2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.046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the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Binomial Distribution formula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o calculate the theoretical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probability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of getting each of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0, 1, 2, 3 or 4 hearts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en 4 cards are selected at random with replac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how these probabilities on a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probability distribution t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0" y="1828800"/>
            <a:ext cx="9144000" cy="2893320"/>
          </a:xfrm>
          <a:prstGeom prst="rect">
            <a:avLst/>
          </a:prstGeom>
          <a:solidFill>
            <a:srgbClr val="ff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We define the Binomial variable, 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, by 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    =    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(1–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is the number of 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successes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out of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independent trials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is the probability of “success” in each </a:t>
            </a:r>
            <a:r>
              <a:rPr b="0" i="1" lang="en-NZ" sz="28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981080" y="2362320"/>
                <a:ext cx="900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67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3 hearts can be selected in 4 different orders (</a:t>
            </a:r>
            <a:r>
              <a:rPr b="1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o P(X=3) =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0.2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Activity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the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Binomial Distribution formula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o calculate the theoretical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probability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of getting each of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0, 1, 2, 3 or 4 hearts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en 4 cards are selected at random with replac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how these probabilities on a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probability distribution t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131760" y="352440"/>
            <a:ext cx="8991720" cy="1312920"/>
          </a:xfrm>
          <a:prstGeom prst="rect">
            <a:avLst/>
          </a:prstGeom>
          <a:solidFill>
            <a:srgbClr val="cc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HW:  Do Sigma (old – 2</a:t>
            </a:r>
            <a:r>
              <a:rPr b="1" lang="en-NZ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ed): p67 – Ex. 5.1.        </a:t>
            </a:r>
            <a:r>
              <a:rPr b="1" lang="en-NZ" sz="4000" spc="-1" strike="noStrike">
                <a:solidFill>
                  <a:srgbClr val="ff0000"/>
                </a:solidFill>
                <a:latin typeface="Comic Sans MS"/>
              </a:rPr>
              <a:t>SKIP Q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0" y="1676520"/>
            <a:ext cx="9144000" cy="2893320"/>
          </a:xfrm>
          <a:prstGeom prst="rect">
            <a:avLst/>
          </a:prstGeom>
          <a:solidFill>
            <a:srgbClr val="ff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We define the Binomial variable, 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, by 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    =    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(1–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is the number of 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successes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out of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independent trials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is the probability of “success” in each </a:t>
            </a:r>
            <a:r>
              <a:rPr b="0" i="1" lang="en-NZ" sz="28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4"/>
              <p:cNvSpPr txBox="1"/>
              <p:nvPr/>
            </p:nvSpPr>
            <p:spPr>
              <a:xfrm>
                <a:off x="1981080" y="2209680"/>
                <a:ext cx="900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esson 8:  The 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Binomial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Distribution (an introdu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Learning outco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Learn what the Binomial Distribution is &amp; its parameters, 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 and  </a:t>
            </a:r>
            <a:r>
              <a:rPr b="1" i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Learn the 4 requirements for using it (you will be memorising thes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alculate Binomial Distribution probabilities using the formu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o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Notes (sheet to fill in), cards activity &amp; examples as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igma (old – 2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ed): Pg. 67 – Ex. 5.1.  Finish for H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279360" y="4724280"/>
          <a:ext cx="8575560" cy="1752840"/>
        </p:xfrm>
        <a:graphic>
          <a:graphicData uri="http://schemas.openxmlformats.org/drawingml/2006/table">
            <a:tbl>
              <a:tblPr/>
              <a:tblGrid>
                <a:gridCol w="2708280"/>
                <a:gridCol w="1295280"/>
                <a:gridCol w="1219320"/>
                <a:gridCol w="1143000"/>
                <a:gridCol w="1143000"/>
                <a:gridCol w="1066680"/>
              </a:tblGrid>
              <a:tr h="855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0" i="1" lang="en-NZ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NZ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0" i="1" lang="en-NZ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NZ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TextBox 2"/>
          <p:cNvSpPr/>
          <p:nvPr/>
        </p:nvSpPr>
        <p:spPr>
          <a:xfrm>
            <a:off x="279360" y="38862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robability Distribution Table of Number of Hearts obtained (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) when 4 cards are selected with replacement from a standard d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12600" y="457200"/>
            <a:ext cx="9144000" cy="2893320"/>
          </a:xfrm>
          <a:prstGeom prst="rect">
            <a:avLst/>
          </a:prstGeom>
          <a:solidFill>
            <a:srgbClr val="ff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We define the Binomial variable, 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, by 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    =    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(1–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is the number of 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successes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out of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independent trials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is the probability of “success” in each </a:t>
            </a:r>
            <a:r>
              <a:rPr b="0" i="1" lang="en-NZ" sz="28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4"/>
              <p:cNvSpPr txBox="1"/>
              <p:nvPr/>
            </p:nvSpPr>
            <p:spPr>
              <a:xfrm>
                <a:off x="2057400" y="990720"/>
                <a:ext cx="900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6" name="Text Box 5"/>
          <p:cNvSpPr/>
          <p:nvPr/>
        </p:nvSpPr>
        <p:spPr>
          <a:xfrm>
            <a:off x="282600" y="1752480"/>
            <a:ext cx="9144000" cy="1312920"/>
          </a:xfrm>
          <a:prstGeom prst="rect">
            <a:avLst/>
          </a:prstGeom>
          <a:solidFill>
            <a:srgbClr val="cc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HW:  Do Sigma (old – 2</a:t>
            </a:r>
            <a:r>
              <a:rPr b="1" lang="en-NZ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ed): p67 – Ex. 5.1.    </a:t>
            </a:r>
            <a:r>
              <a:rPr b="1" lang="en-NZ" sz="4000" spc="-1" strike="noStrike">
                <a:solidFill>
                  <a:srgbClr val="ff0000"/>
                </a:solidFill>
                <a:latin typeface="Comic Sans MS"/>
              </a:rPr>
              <a:t>SKIP Q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esson 9:  Use the 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Binomial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Distribution to calculate prob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Learning outcome:  Calculate binomial probabilities for individual and 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combine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events using the formula &amp; t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TARTER: Warm-up quiz (handouts to write answers 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ombined events e.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Do NuLake p285 and 286 (finish for HW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Year 13 tod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6840" y="1371240"/>
            <a:ext cx="8458200" cy="5257800"/>
          </a:xfrm>
          <a:prstGeom prst="rect">
            <a:avLst/>
          </a:prstGeom>
          <a:solidFill>
            <a:srgbClr val="ffffff"/>
          </a:solidFill>
          <a:ln w="63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Getting binomial distribution sort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Do warm-up quiz (answers on project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Copy notes on how to calculate Binomial probabilities for more than 1 value of 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E.g. P(X</a:t>
            </a:r>
            <a:r>
              <a:rPr b="0" lang="en-NZ" sz="28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Do NuLake  pg. 285 and 286:  Q4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1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Extension people go right through to Q1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5"/>
          <p:cNvSpPr/>
          <p:nvPr/>
        </p:nvSpPr>
        <p:spPr>
          <a:xfrm>
            <a:off x="0" y="492480"/>
            <a:ext cx="9144000" cy="617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Warm-up Quiz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A police officer checks five cars in succession. She knows from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experience that the probability of a car 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not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 having a warrant of fitness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(WOF) is 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1/6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(1.)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 Write out the 4 requirements for the use of the 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Binomial Dist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(2.)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If we use the Binomial Distn to model the number of cars not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having a WOF, which of the 4 requirements are definitely met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Do any require us to make questionable assumptions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(3.)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  Use the binomial distribution to calculate the probability tha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three of the cars have not got warrants of fitne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0" y="293760"/>
            <a:ext cx="958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 police officer checks five cars in succession. The probability of a car not ha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OF is 1/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(1.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Write out the 4 requirements for the use of th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inomial Dist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507960" y="1402200"/>
            <a:ext cx="43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four conditions to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677880" y="2895480"/>
            <a:ext cx="77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•  </a:t>
            </a:r>
            <a:r>
              <a:rPr b="0" i="1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only two possible outcomes (success or failure) at each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8"/>
          <p:cNvSpPr/>
          <p:nvPr/>
        </p:nvSpPr>
        <p:spPr>
          <a:xfrm>
            <a:off x="759960" y="1752480"/>
            <a:ext cx="33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•  </a:t>
            </a:r>
            <a:r>
              <a:rPr b="0" i="1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a fixed number of t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9"/>
          <p:cNvSpPr/>
          <p:nvPr/>
        </p:nvSpPr>
        <p:spPr>
          <a:xfrm>
            <a:off x="754560" y="5562720"/>
            <a:ext cx="60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•  </a:t>
            </a:r>
            <a:r>
              <a:rPr b="0" i="1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probability of success at each trial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0"/>
          <p:cNvSpPr/>
          <p:nvPr/>
        </p:nvSpPr>
        <p:spPr>
          <a:xfrm>
            <a:off x="682200" y="4267080"/>
            <a:ext cx="34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•  </a:t>
            </a:r>
            <a:r>
              <a:rPr b="0" i="1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each trial is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0" y="156600"/>
            <a:ext cx="958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 police officer checks five cars in succession. The probability of a car not ha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OF is 1/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(2.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f we use the Bin. Distn to model the number of cars not having a WOF, 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of the 4 requirements are definitely met? Which require us to make assump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507960" y="1402200"/>
            <a:ext cx="43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four conditions to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754200" y="2743200"/>
            <a:ext cx="77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•  </a:t>
            </a:r>
            <a:r>
              <a:rPr b="0" i="1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only two possible outcomes (success or failure) at each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8"/>
          <p:cNvSpPr/>
          <p:nvPr/>
        </p:nvSpPr>
        <p:spPr>
          <a:xfrm>
            <a:off x="683640" y="1828800"/>
            <a:ext cx="33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•  </a:t>
            </a:r>
            <a:r>
              <a:rPr b="0" i="1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a fixed number of t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9"/>
          <p:cNvSpPr/>
          <p:nvPr/>
        </p:nvSpPr>
        <p:spPr>
          <a:xfrm>
            <a:off x="830880" y="5646600"/>
            <a:ext cx="60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•  </a:t>
            </a:r>
            <a:r>
              <a:rPr b="0" i="1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probability of success at each trial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758520" y="3657600"/>
            <a:ext cx="34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•  </a:t>
            </a:r>
            <a:r>
              <a:rPr b="0" i="1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each trial is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1087200" y="312408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Yes. A car either has a WOF or does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969840" y="220968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Yes.  5 cars are che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4"/>
          <p:cNvSpPr/>
          <p:nvPr/>
        </p:nvSpPr>
        <p:spPr>
          <a:xfrm>
            <a:off x="1009800" y="4038480"/>
            <a:ext cx="8134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king an assumption that whether one car has a WOF i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ependent of whether another one does.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houl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be a valid assump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156600"/>
            <a:ext cx="958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 police officer checks five cars in succession. The probability of a car not ha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OF is 1/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(2.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f we use the Bin. Distn to model the number of cars not having a WOF, 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of the 4 requirements are definitely met? Which require us to make assump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507960" y="1402200"/>
            <a:ext cx="43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four conditions to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754200" y="2743200"/>
            <a:ext cx="77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•  </a:t>
            </a:r>
            <a:r>
              <a:rPr b="0" i="1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only two possible outcomes (success or failure) at each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8"/>
          <p:cNvSpPr/>
          <p:nvPr/>
        </p:nvSpPr>
        <p:spPr>
          <a:xfrm>
            <a:off x="683640" y="1828800"/>
            <a:ext cx="33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•  </a:t>
            </a:r>
            <a:r>
              <a:rPr b="0" i="1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a fixed number of t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9"/>
          <p:cNvSpPr/>
          <p:nvPr/>
        </p:nvSpPr>
        <p:spPr>
          <a:xfrm>
            <a:off x="830880" y="5646600"/>
            <a:ext cx="60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•  </a:t>
            </a:r>
            <a:r>
              <a:rPr b="0" i="1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probability of success at each trial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0"/>
          <p:cNvSpPr/>
          <p:nvPr/>
        </p:nvSpPr>
        <p:spPr>
          <a:xfrm>
            <a:off x="758520" y="3657600"/>
            <a:ext cx="34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•  </a:t>
            </a:r>
            <a:r>
              <a:rPr b="0" i="1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each trial is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1"/>
          <p:cNvSpPr/>
          <p:nvPr/>
        </p:nvSpPr>
        <p:spPr>
          <a:xfrm>
            <a:off x="1087200" y="312408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Yes. A car either has a WOF or does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2"/>
          <p:cNvSpPr/>
          <p:nvPr/>
        </p:nvSpPr>
        <p:spPr>
          <a:xfrm>
            <a:off x="969840" y="220968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Yes.  5 cars are che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3"/>
          <p:cNvSpPr/>
          <p:nvPr/>
        </p:nvSpPr>
        <p:spPr>
          <a:xfrm>
            <a:off x="1066680" y="602784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Yes, again so long as we don’t get cars travelling in convo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4"/>
          <p:cNvSpPr/>
          <p:nvPr/>
        </p:nvSpPr>
        <p:spPr>
          <a:xfrm>
            <a:off x="1009800" y="4038480"/>
            <a:ext cx="8134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king an assumption that whether one car has a WOF i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ependent of whether another one does.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houl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be a valid assumption.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There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is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 the possibility that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successive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 cars could be travelling in convoy!  But this would be r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11635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446400" y="-33840"/>
            <a:ext cx="85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police officer checks five cars in succession. The probability of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r not having a WOF is 1/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ind the probability that three of the cars have not got WO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3121200" y="1217880"/>
            <a:ext cx="5712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Give the values of the two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772920" y="124668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1285920" y="1246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Object 9"/>
          <p:cNvGraphicFramePr/>
          <p:nvPr/>
        </p:nvGraphicFramePr>
        <p:xfrm>
          <a:off x="2560680" y="1171440"/>
          <a:ext cx="23508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0680" y="1171440"/>
                    <a:ext cx="2350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Rectangle 10"/>
          <p:cNvSpPr/>
          <p:nvPr/>
        </p:nvSpPr>
        <p:spPr>
          <a:xfrm>
            <a:off x="3200400" y="1902960"/>
            <a:ext cx="5943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Calculate the probability of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i.e. a given car fails its WOF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ff"/>
                </a:solidFill>
                <a:latin typeface="Comic Sans MS"/>
              </a:rPr>
              <a:t>1-</a:t>
            </a:r>
            <a:r>
              <a:rPr b="0" i="1" lang="el-GR" sz="2400" spc="-1" strike="noStrike">
                <a:solidFill>
                  <a:srgbClr val="0000ff"/>
                </a:solidFill>
                <a:latin typeface="Comic Sans MS"/>
              </a:rPr>
              <a:t>π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1"/>
          <p:cNvSpPr/>
          <p:nvPr/>
        </p:nvSpPr>
        <p:spPr>
          <a:xfrm>
            <a:off x="610920" y="1904400"/>
            <a:ext cx="6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Object 12"/>
          <p:cNvGraphicFramePr/>
          <p:nvPr/>
        </p:nvGraphicFramePr>
        <p:xfrm>
          <a:off x="1295280" y="1905120"/>
          <a:ext cx="520920" cy="6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5209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Rectangle 13"/>
          <p:cNvSpPr/>
          <p:nvPr/>
        </p:nvSpPr>
        <p:spPr>
          <a:xfrm>
            <a:off x="433440" y="12463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5"/>
          <p:cNvSpPr/>
          <p:nvPr/>
        </p:nvSpPr>
        <p:spPr>
          <a:xfrm>
            <a:off x="1981080" y="1218600"/>
            <a:ext cx="7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0" y="0"/>
            <a:ext cx="9144000" cy="11635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5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446400" y="-33840"/>
            <a:ext cx="85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police officer checks five cars in succession. The probability of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r not having a WOF is 1/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Find the probability that three of the cars have not got WO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772920" y="124668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6"/>
          <p:cNvSpPr/>
          <p:nvPr/>
        </p:nvSpPr>
        <p:spPr>
          <a:xfrm>
            <a:off x="1285920" y="1246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Object 8"/>
          <p:cNvGraphicFramePr/>
          <p:nvPr/>
        </p:nvGraphicFramePr>
        <p:xfrm>
          <a:off x="2560680" y="1171440"/>
          <a:ext cx="23508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0680" y="1171440"/>
                    <a:ext cx="2350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Rectangle 9"/>
          <p:cNvSpPr/>
          <p:nvPr/>
        </p:nvSpPr>
        <p:spPr>
          <a:xfrm>
            <a:off x="3200400" y="1272240"/>
            <a:ext cx="9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</a:t>
            </a:r>
            <a:r>
              <a:rPr b="0" i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π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Object 10"/>
          <p:cNvGraphicFramePr/>
          <p:nvPr/>
        </p:nvGraphicFramePr>
        <p:xfrm>
          <a:off x="4240080" y="1177920"/>
          <a:ext cx="235080" cy="6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40080" y="1177920"/>
                    <a:ext cx="2350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Rectangle 11"/>
          <p:cNvSpPr/>
          <p:nvPr/>
        </p:nvSpPr>
        <p:spPr>
          <a:xfrm>
            <a:off x="433440" y="12463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2"/>
          <p:cNvSpPr/>
          <p:nvPr/>
        </p:nvSpPr>
        <p:spPr>
          <a:xfrm>
            <a:off x="3659760" y="3889440"/>
            <a:ext cx="48074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What are we trying to find</a:t>
            </a:r>
            <a:br>
              <a:rPr sz="2400"/>
            </a:b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d what formula will we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3"/>
          <p:cNvSpPr/>
          <p:nvPr/>
        </p:nvSpPr>
        <p:spPr>
          <a:xfrm>
            <a:off x="2041920" y="121824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π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5"/>
          <p:cNvSpPr/>
          <p:nvPr/>
        </p:nvSpPr>
        <p:spPr>
          <a:xfrm>
            <a:off x="3434040" y="1832040"/>
            <a:ext cx="5712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Give the values of the two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6"/>
          <p:cNvSpPr/>
          <p:nvPr/>
        </p:nvSpPr>
        <p:spPr>
          <a:xfrm>
            <a:off x="3200400" y="2441160"/>
            <a:ext cx="5943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Calculate the probability of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i.e. a given car fails its WOF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ff"/>
                </a:solidFill>
                <a:latin typeface="Comic Sans MS"/>
              </a:rPr>
              <a:t>1-</a:t>
            </a:r>
            <a:r>
              <a:rPr b="0" i="1" lang="el-GR" sz="2400" spc="-1" strike="noStrike">
                <a:solidFill>
                  <a:srgbClr val="0000ff"/>
                </a:solidFill>
                <a:latin typeface="Comic Sans MS"/>
              </a:rPr>
              <a:t>π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2"/>
          <p:cNvSpPr/>
          <p:nvPr/>
        </p:nvSpPr>
        <p:spPr>
          <a:xfrm>
            <a:off x="2362320" y="4648320"/>
            <a:ext cx="20574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0" y="0"/>
            <a:ext cx="9144000" cy="11635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5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446400" y="-33840"/>
            <a:ext cx="85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police officer checks five cars in succession. The probability of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r not having a WOF is 1/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Find the probability that three of the cars have not got WO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772920" y="124668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1285920" y="1246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Object 9"/>
          <p:cNvGraphicFramePr/>
          <p:nvPr/>
        </p:nvGraphicFramePr>
        <p:xfrm>
          <a:off x="2560680" y="1171440"/>
          <a:ext cx="23508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0680" y="1171440"/>
                    <a:ext cx="2350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Rectangle 10"/>
          <p:cNvSpPr/>
          <p:nvPr/>
        </p:nvSpPr>
        <p:spPr>
          <a:xfrm>
            <a:off x="3200400" y="1272240"/>
            <a:ext cx="9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</a:t>
            </a:r>
            <a:r>
              <a:rPr b="0" i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π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Object 11"/>
          <p:cNvGraphicFramePr/>
          <p:nvPr/>
        </p:nvGraphicFramePr>
        <p:xfrm>
          <a:off x="4240080" y="1177920"/>
          <a:ext cx="235080" cy="6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40080" y="1177920"/>
                    <a:ext cx="2350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Rectangle 12"/>
          <p:cNvSpPr/>
          <p:nvPr/>
        </p:nvSpPr>
        <p:spPr>
          <a:xfrm>
            <a:off x="433440" y="12463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3"/>
          <p:cNvSpPr/>
          <p:nvPr/>
        </p:nvSpPr>
        <p:spPr>
          <a:xfrm>
            <a:off x="786240" y="1913400"/>
            <a:ext cx="26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ind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3) u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4"/>
          <p:cNvSpPr/>
          <p:nvPr/>
        </p:nvSpPr>
        <p:spPr>
          <a:xfrm>
            <a:off x="3329280" y="1894680"/>
            <a:ext cx="332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1-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n–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Object 16"/>
          <p:cNvGraphicFramePr/>
          <p:nvPr/>
        </p:nvGraphicFramePr>
        <p:xfrm>
          <a:off x="839880" y="2919240"/>
          <a:ext cx="1549440" cy="3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7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9880" y="2919240"/>
                    <a:ext cx="1549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Object 17"/>
          <p:cNvGraphicFramePr/>
          <p:nvPr/>
        </p:nvGraphicFramePr>
        <p:xfrm>
          <a:off x="2414520" y="2670120"/>
          <a:ext cx="2387520" cy="73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9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14520" y="2670120"/>
                    <a:ext cx="23875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Object 20"/>
          <p:cNvGraphicFramePr/>
          <p:nvPr/>
        </p:nvGraphicFramePr>
        <p:xfrm>
          <a:off x="2133720" y="3657600"/>
          <a:ext cx="99036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1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3657600"/>
                    <a:ext cx="990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Rectangle 22"/>
          <p:cNvSpPr/>
          <p:nvPr/>
        </p:nvSpPr>
        <p:spPr>
          <a:xfrm>
            <a:off x="6086880" y="2762640"/>
            <a:ext cx="2491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Calculate P(</a:t>
            </a:r>
            <a:r>
              <a:rPr b="0" i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X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=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3"/>
          <p:cNvSpPr/>
          <p:nvPr/>
        </p:nvSpPr>
        <p:spPr>
          <a:xfrm>
            <a:off x="6838920" y="6451560"/>
            <a:ext cx="2079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4"/>
          <p:cNvSpPr/>
          <p:nvPr/>
        </p:nvSpPr>
        <p:spPr>
          <a:xfrm>
            <a:off x="1965960" y="121824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π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5"/>
          <p:cNvSpPr/>
          <p:nvPr/>
        </p:nvSpPr>
        <p:spPr>
          <a:xfrm>
            <a:off x="2057400" y="4648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0.03215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4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"/>
          <p:cNvSpPr/>
          <p:nvPr/>
        </p:nvSpPr>
        <p:spPr>
          <a:xfrm>
            <a:off x="0" y="548640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240" y="9903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0" y="457200"/>
            <a:ext cx="9144000" cy="573084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500" spc="-1" strike="noStrike">
                <a:solidFill>
                  <a:srgbClr val="000000"/>
                </a:solidFill>
                <a:latin typeface="Comic Sans MS"/>
              </a:rPr>
              <a:t>Experiment: Drawing cards from a pack of 52 </a:t>
            </a:r>
            <a:r>
              <a:rPr b="1" i="1" lang="en-NZ" sz="35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1" lang="en-NZ" sz="3500" spc="-1" strike="noStrike">
                <a:solidFill>
                  <a:srgbClr val="000000"/>
                </a:solidFill>
                <a:latin typeface="Comic Sans MS"/>
              </a:rPr>
              <a:t> replacemen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Winner: The person who draws the most </a:t>
            </a:r>
            <a:r>
              <a:rPr b="1" lang="en-NZ" sz="3200" spc="-1" strike="noStrike" u="sng">
                <a:solidFill>
                  <a:srgbClr val="ff0000"/>
                </a:solidFill>
                <a:uFillTx/>
                <a:latin typeface="Comic Sans MS"/>
              </a:rPr>
              <a:t>hearts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 in 4 attem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Record the number of hearts that you get (0, 1, 2, 3 or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100" spc="-1" strike="noStrike">
                <a:solidFill>
                  <a:srgbClr val="ff0000"/>
                </a:solidFill>
                <a:latin typeface="Comic Sans MS"/>
              </a:rPr>
              <a:t>Later we will calculate the </a:t>
            </a:r>
            <a:r>
              <a:rPr b="1" i="1" lang="en-NZ" sz="3100" spc="-1" strike="noStrike">
                <a:solidFill>
                  <a:srgbClr val="ff0000"/>
                </a:solidFill>
                <a:latin typeface="Comic Sans MS"/>
              </a:rPr>
              <a:t>theoretical probability </a:t>
            </a:r>
            <a:r>
              <a:rPr b="0" i="1" lang="en-NZ" sz="3100" spc="-1" strike="noStrike">
                <a:solidFill>
                  <a:srgbClr val="ff0000"/>
                </a:solidFill>
                <a:latin typeface="Comic Sans MS"/>
              </a:rPr>
              <a:t>of getting each number of hearts (0, 1, 2, 3 or 4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0" y="55324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E.g. Calculate  P 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for n=10, </a:t>
            </a:r>
            <a:r>
              <a:rPr b="0" lang="en-NZ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152280" y="4419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9" name="Object 16"/>
          <p:cNvGraphicFramePr/>
          <p:nvPr/>
        </p:nvGraphicFramePr>
        <p:xfrm>
          <a:off x="857160" y="1913040"/>
          <a:ext cx="154944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913040"/>
                    <a:ext cx="15494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Object 17"/>
          <p:cNvGraphicFramePr/>
          <p:nvPr/>
        </p:nvGraphicFramePr>
        <p:xfrm>
          <a:off x="2432160" y="1663560"/>
          <a:ext cx="2387520" cy="73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2160" y="1663560"/>
                    <a:ext cx="2387520" cy="7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Object 20"/>
          <p:cNvGraphicFramePr/>
          <p:nvPr/>
        </p:nvGraphicFramePr>
        <p:xfrm>
          <a:off x="2151000" y="2651040"/>
          <a:ext cx="99072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4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51000" y="2651040"/>
                    <a:ext cx="9907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Rectangle 22"/>
          <p:cNvSpPr/>
          <p:nvPr/>
        </p:nvSpPr>
        <p:spPr>
          <a:xfrm>
            <a:off x="6104520" y="1756080"/>
            <a:ext cx="2491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Calculate P(</a:t>
            </a:r>
            <a:r>
              <a:rPr b="0" i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X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=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2"/>
          <p:cNvSpPr/>
          <p:nvPr/>
        </p:nvSpPr>
        <p:spPr>
          <a:xfrm>
            <a:off x="2379600" y="3565440"/>
            <a:ext cx="20574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5"/>
          <p:cNvSpPr/>
          <p:nvPr/>
        </p:nvSpPr>
        <p:spPr>
          <a:xfrm>
            <a:off x="2075040" y="35654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0.03215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4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0"/>
          <p:cNvSpPr/>
          <p:nvPr/>
        </p:nvSpPr>
        <p:spPr>
          <a:xfrm>
            <a:off x="3252960" y="271800"/>
            <a:ext cx="9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</a:t>
            </a:r>
            <a:r>
              <a:rPr b="0" i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π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Object 11"/>
          <p:cNvGraphicFramePr/>
          <p:nvPr/>
        </p:nvGraphicFramePr>
        <p:xfrm>
          <a:off x="4292640" y="177840"/>
          <a:ext cx="235080" cy="615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92640" y="177840"/>
                    <a:ext cx="2350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Rectangle 12"/>
          <p:cNvSpPr/>
          <p:nvPr/>
        </p:nvSpPr>
        <p:spPr>
          <a:xfrm>
            <a:off x="486000" y="2462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3"/>
          <p:cNvSpPr/>
          <p:nvPr/>
        </p:nvSpPr>
        <p:spPr>
          <a:xfrm>
            <a:off x="838440" y="913320"/>
            <a:ext cx="26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ind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3) u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4"/>
          <p:cNvSpPr/>
          <p:nvPr/>
        </p:nvSpPr>
        <p:spPr>
          <a:xfrm>
            <a:off x="3381840" y="894600"/>
            <a:ext cx="332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1-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n–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24"/>
          <p:cNvSpPr/>
          <p:nvPr/>
        </p:nvSpPr>
        <p:spPr>
          <a:xfrm>
            <a:off x="2018160" y="21816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π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839520" y="22752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1352520" y="2275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7" name="Object 9"/>
          <p:cNvGraphicFramePr/>
          <p:nvPr/>
        </p:nvGraphicFramePr>
        <p:xfrm>
          <a:off x="2590920" y="228600"/>
          <a:ext cx="234720" cy="615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8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228600"/>
                    <a:ext cx="234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0" y="3931920"/>
            <a:ext cx="914400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E.g. Calculate  P 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for n=10, </a:t>
            </a:r>
            <a:r>
              <a:rPr b="0" lang="en-NZ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P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 = P(X=0) + P(X=1) + P(X=2)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~ look up 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152280" y="2819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1" name="Object 16"/>
          <p:cNvGraphicFramePr/>
          <p:nvPr/>
        </p:nvGraphicFramePr>
        <p:xfrm>
          <a:off x="863640" y="554040"/>
          <a:ext cx="154944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2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554040"/>
                    <a:ext cx="15494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Object 17"/>
          <p:cNvGraphicFramePr/>
          <p:nvPr/>
        </p:nvGraphicFramePr>
        <p:xfrm>
          <a:off x="2438280" y="304920"/>
          <a:ext cx="238788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4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04920"/>
                    <a:ext cx="23878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20"/>
          <p:cNvGraphicFramePr/>
          <p:nvPr/>
        </p:nvGraphicFramePr>
        <p:xfrm>
          <a:off x="2157480" y="1292400"/>
          <a:ext cx="99036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6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57480" y="1292400"/>
                    <a:ext cx="990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Rectangle 22"/>
          <p:cNvSpPr/>
          <p:nvPr/>
        </p:nvSpPr>
        <p:spPr>
          <a:xfrm>
            <a:off x="6110640" y="397080"/>
            <a:ext cx="2491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Calculate P(</a:t>
            </a:r>
            <a:r>
              <a:rPr b="0" i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X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=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386080" y="2206800"/>
            <a:ext cx="20574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5"/>
          <p:cNvSpPr/>
          <p:nvPr/>
        </p:nvSpPr>
        <p:spPr>
          <a:xfrm>
            <a:off x="2081160" y="2206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=  0.03215 (4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E.g. Calculate  P 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for n=10, </a:t>
            </a:r>
            <a:r>
              <a:rPr b="0" lang="en-NZ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P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 = P(X=0) + P(X=1) + P(X=2)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~ look up 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4"/>
          <p:cNvSpPr/>
          <p:nvPr/>
        </p:nvSpPr>
        <p:spPr>
          <a:xfrm>
            <a:off x="1676520" y="2666880"/>
            <a:ext cx="114300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E.g. Calculate  P 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for n=10, </a:t>
            </a:r>
            <a:r>
              <a:rPr b="0" lang="en-NZ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P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 = P(X=0) + P(X=1) + P(X=2)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~ look up 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134640" cy="2619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" descr=""/>
          <p:cNvPicPr/>
          <p:nvPr/>
        </p:nvPicPr>
        <p:blipFill>
          <a:blip r:embed="rId2"/>
          <a:stretch/>
        </p:blipFill>
        <p:spPr>
          <a:xfrm>
            <a:off x="0" y="3352680"/>
            <a:ext cx="9020160" cy="287676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9"/>
          <p:cNvSpPr/>
          <p:nvPr/>
        </p:nvSpPr>
        <p:spPr>
          <a:xfrm>
            <a:off x="380880" y="4579200"/>
            <a:ext cx="3581640" cy="1923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134640" cy="26193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3" descr=""/>
          <p:cNvPicPr/>
          <p:nvPr/>
        </p:nvPicPr>
        <p:blipFill>
          <a:blip r:embed="rId2"/>
          <a:stretch/>
        </p:blipFill>
        <p:spPr>
          <a:xfrm>
            <a:off x="0" y="3352680"/>
            <a:ext cx="9020160" cy="287676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9"/>
          <p:cNvSpPr/>
          <p:nvPr/>
        </p:nvSpPr>
        <p:spPr>
          <a:xfrm>
            <a:off x="380880" y="4579200"/>
            <a:ext cx="3581640" cy="1923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arameters: n=10,  </a:t>
            </a:r>
            <a:r>
              <a:rPr b="0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To find P(X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2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0)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1) 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2) 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134640" cy="26193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3" descr=""/>
          <p:cNvPicPr/>
          <p:nvPr/>
        </p:nvPicPr>
        <p:blipFill>
          <a:blip r:embed="rId2"/>
          <a:stretch/>
        </p:blipFill>
        <p:spPr>
          <a:xfrm>
            <a:off x="0" y="3352680"/>
            <a:ext cx="9020160" cy="287676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9"/>
          <p:cNvSpPr/>
          <p:nvPr/>
        </p:nvSpPr>
        <p:spPr>
          <a:xfrm>
            <a:off x="380880" y="4579200"/>
            <a:ext cx="3581640" cy="1923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arameters: n=10,  </a:t>
            </a:r>
            <a:r>
              <a:rPr b="0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To find P(X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2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0)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1) 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2) 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4"/>
          <p:cNvSpPr/>
          <p:nvPr/>
        </p:nvSpPr>
        <p:spPr>
          <a:xfrm>
            <a:off x="4952880" y="3429000"/>
            <a:ext cx="6858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6"/>
          <p:cNvSpPr/>
          <p:nvPr/>
        </p:nvSpPr>
        <p:spPr>
          <a:xfrm>
            <a:off x="0" y="3429000"/>
            <a:ext cx="533520" cy="3808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8"/>
          <p:cNvSpPr/>
          <p:nvPr/>
        </p:nvSpPr>
        <p:spPr>
          <a:xfrm>
            <a:off x="5105520" y="1523880"/>
            <a:ext cx="380880" cy="3049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0" y="3429000"/>
            <a:ext cx="5638680" cy="3808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5029200" y="1600200"/>
            <a:ext cx="609480" cy="22096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134640" cy="26193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"/>
          <p:cNvPicPr/>
          <p:nvPr/>
        </p:nvPicPr>
        <p:blipFill>
          <a:blip r:embed="rId2"/>
          <a:stretch/>
        </p:blipFill>
        <p:spPr>
          <a:xfrm>
            <a:off x="0" y="3352680"/>
            <a:ext cx="9020160" cy="287676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9"/>
          <p:cNvSpPr/>
          <p:nvPr/>
        </p:nvSpPr>
        <p:spPr>
          <a:xfrm>
            <a:off x="380880" y="4579200"/>
            <a:ext cx="3581640" cy="1923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arameters: n=10,  </a:t>
            </a:r>
            <a:r>
              <a:rPr b="0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To find P(X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2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0)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0.02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1) 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2) 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4"/>
          <p:cNvSpPr/>
          <p:nvPr/>
        </p:nvSpPr>
        <p:spPr>
          <a:xfrm>
            <a:off x="4952880" y="3429000"/>
            <a:ext cx="6858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6"/>
          <p:cNvSpPr/>
          <p:nvPr/>
        </p:nvSpPr>
        <p:spPr>
          <a:xfrm>
            <a:off x="0" y="3429000"/>
            <a:ext cx="533520" cy="3808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8"/>
          <p:cNvSpPr/>
          <p:nvPr/>
        </p:nvSpPr>
        <p:spPr>
          <a:xfrm>
            <a:off x="5105520" y="1523880"/>
            <a:ext cx="380880" cy="3049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0" y="3429000"/>
            <a:ext cx="5638680" cy="3808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5029200" y="1600200"/>
            <a:ext cx="609480" cy="22096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134640" cy="26193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"/>
          <p:cNvPicPr/>
          <p:nvPr/>
        </p:nvPicPr>
        <p:blipFill>
          <a:blip r:embed="rId2"/>
          <a:stretch/>
        </p:blipFill>
        <p:spPr>
          <a:xfrm>
            <a:off x="0" y="3352680"/>
            <a:ext cx="9020160" cy="287676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9"/>
          <p:cNvSpPr/>
          <p:nvPr/>
        </p:nvSpPr>
        <p:spPr>
          <a:xfrm>
            <a:off x="380880" y="4579200"/>
            <a:ext cx="3581640" cy="1923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arameters: n=10,  </a:t>
            </a:r>
            <a:r>
              <a:rPr b="0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To find P(X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2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0)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0.02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1) 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2) 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4"/>
          <p:cNvSpPr/>
          <p:nvPr/>
        </p:nvSpPr>
        <p:spPr>
          <a:xfrm>
            <a:off x="4952880" y="3429000"/>
            <a:ext cx="6858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6"/>
          <p:cNvSpPr/>
          <p:nvPr/>
        </p:nvSpPr>
        <p:spPr>
          <a:xfrm>
            <a:off x="0" y="3429000"/>
            <a:ext cx="533520" cy="3808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8"/>
          <p:cNvSpPr/>
          <p:nvPr/>
        </p:nvSpPr>
        <p:spPr>
          <a:xfrm>
            <a:off x="5105520" y="1523880"/>
            <a:ext cx="380880" cy="3049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0" y="3429000"/>
            <a:ext cx="5638680" cy="6094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5029200" y="1600200"/>
            <a:ext cx="609480" cy="24382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134640" cy="26193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3" descr=""/>
          <p:cNvPicPr/>
          <p:nvPr/>
        </p:nvPicPr>
        <p:blipFill>
          <a:blip r:embed="rId2"/>
          <a:stretch/>
        </p:blipFill>
        <p:spPr>
          <a:xfrm>
            <a:off x="0" y="3352680"/>
            <a:ext cx="9020160" cy="287676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9"/>
          <p:cNvSpPr/>
          <p:nvPr/>
        </p:nvSpPr>
        <p:spPr>
          <a:xfrm>
            <a:off x="380880" y="4579200"/>
            <a:ext cx="3581640" cy="1923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arameters: n=10,  </a:t>
            </a:r>
            <a:r>
              <a:rPr b="0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To find P(X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2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0)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0.02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1)  = 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0.12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2) 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4"/>
          <p:cNvSpPr/>
          <p:nvPr/>
        </p:nvSpPr>
        <p:spPr>
          <a:xfrm>
            <a:off x="4952880" y="3429000"/>
            <a:ext cx="6858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6"/>
          <p:cNvSpPr/>
          <p:nvPr/>
        </p:nvSpPr>
        <p:spPr>
          <a:xfrm>
            <a:off x="0" y="3429000"/>
            <a:ext cx="533520" cy="3808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8"/>
          <p:cNvSpPr/>
          <p:nvPr/>
        </p:nvSpPr>
        <p:spPr>
          <a:xfrm>
            <a:off x="5105520" y="1523880"/>
            <a:ext cx="380880" cy="3049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0" y="3429000"/>
            <a:ext cx="5638680" cy="6094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5029200" y="1600200"/>
            <a:ext cx="609480" cy="24382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28240" y="9903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0" y="563400"/>
            <a:ext cx="9144000" cy="618804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Comic Sans MS"/>
              </a:rPr>
              <a:t>Experiment: Drawing cards from a pack of 52 </a:t>
            </a:r>
            <a:r>
              <a:rPr b="1" i="1" lang="en-NZ" sz="22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1" lang="en-NZ" sz="2200" spc="-1" strike="noStrike">
                <a:solidFill>
                  <a:srgbClr val="000000"/>
                </a:solidFill>
                <a:latin typeface="Comic Sans MS"/>
              </a:rPr>
              <a:t> replac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Comic Sans MS"/>
              </a:rPr>
              <a:t>Winner: The person who draws the most </a:t>
            </a:r>
            <a:r>
              <a:rPr b="1" lang="en-NZ" sz="2200" spc="-1" strike="noStrike" u="sng">
                <a:solidFill>
                  <a:srgbClr val="ff0000"/>
                </a:solidFill>
                <a:uFillTx/>
                <a:latin typeface="Comic Sans MS"/>
              </a:rPr>
              <a:t>hearts</a:t>
            </a:r>
            <a:r>
              <a:rPr b="1" lang="en-NZ" sz="2200" spc="-1" strike="noStrike">
                <a:solidFill>
                  <a:srgbClr val="000000"/>
                </a:solidFill>
                <a:latin typeface="Comic Sans MS"/>
              </a:rPr>
              <a:t> in 4 attem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Comic Sans MS"/>
              </a:rPr>
              <a:t>Record the number of hearts that you get (0, 1, 2, 3 or 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0000"/>
                </a:solidFill>
                <a:latin typeface="Comic Sans MS"/>
              </a:rPr>
              <a:t>Later we will calculate the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theoretical probability </a:t>
            </a:r>
            <a:r>
              <a:rPr b="0" i="1" lang="en-NZ" sz="2400" spc="-1" strike="noStrike">
                <a:solidFill>
                  <a:srgbClr val="ff0000"/>
                </a:solidFill>
                <a:latin typeface="Comic Sans MS"/>
              </a:rPr>
              <a:t>of getting each number of hearts (0, 1, 2, 3 or 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icture 6"/>
          <p:cNvSpPr/>
          <p:nvPr/>
        </p:nvSpPr>
        <p:spPr>
          <a:xfrm>
            <a:off x="228600" y="4495680"/>
            <a:ext cx="859140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134640" cy="26193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" descr=""/>
          <p:cNvPicPr/>
          <p:nvPr/>
        </p:nvPicPr>
        <p:blipFill>
          <a:blip r:embed="rId2"/>
          <a:stretch/>
        </p:blipFill>
        <p:spPr>
          <a:xfrm>
            <a:off x="0" y="3352680"/>
            <a:ext cx="9020160" cy="287676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9"/>
          <p:cNvSpPr/>
          <p:nvPr/>
        </p:nvSpPr>
        <p:spPr>
          <a:xfrm>
            <a:off x="380880" y="4579200"/>
            <a:ext cx="3581640" cy="1923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arameters: n=10,  </a:t>
            </a:r>
            <a:r>
              <a:rPr b="0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To find P(X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2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0)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0.02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1)  = 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0.12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2) 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4"/>
          <p:cNvSpPr/>
          <p:nvPr/>
        </p:nvSpPr>
        <p:spPr>
          <a:xfrm>
            <a:off x="4952880" y="3429000"/>
            <a:ext cx="76212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6"/>
          <p:cNvSpPr/>
          <p:nvPr/>
        </p:nvSpPr>
        <p:spPr>
          <a:xfrm>
            <a:off x="0" y="3429000"/>
            <a:ext cx="533520" cy="3808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8"/>
          <p:cNvSpPr/>
          <p:nvPr/>
        </p:nvSpPr>
        <p:spPr>
          <a:xfrm>
            <a:off x="5105520" y="1523880"/>
            <a:ext cx="380880" cy="3049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0" y="3429000"/>
            <a:ext cx="5638680" cy="8380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7"/>
          <p:cNvSpPr/>
          <p:nvPr/>
        </p:nvSpPr>
        <p:spPr>
          <a:xfrm>
            <a:off x="5029200" y="1600200"/>
            <a:ext cx="609480" cy="26668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134640" cy="261936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3" descr=""/>
          <p:cNvPicPr/>
          <p:nvPr/>
        </p:nvPicPr>
        <p:blipFill>
          <a:blip r:embed="rId2"/>
          <a:stretch/>
        </p:blipFill>
        <p:spPr>
          <a:xfrm>
            <a:off x="0" y="3352680"/>
            <a:ext cx="9020160" cy="287676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9"/>
          <p:cNvSpPr/>
          <p:nvPr/>
        </p:nvSpPr>
        <p:spPr>
          <a:xfrm>
            <a:off x="380880" y="4579200"/>
            <a:ext cx="3581640" cy="1923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arameters: n=10,  </a:t>
            </a:r>
            <a:r>
              <a:rPr b="0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To find P(X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2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0)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0.02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1)  = 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0.12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2) 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0.23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4"/>
          <p:cNvSpPr/>
          <p:nvPr/>
        </p:nvSpPr>
        <p:spPr>
          <a:xfrm>
            <a:off x="4952880" y="3429000"/>
            <a:ext cx="76212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6"/>
          <p:cNvSpPr/>
          <p:nvPr/>
        </p:nvSpPr>
        <p:spPr>
          <a:xfrm>
            <a:off x="0" y="3429000"/>
            <a:ext cx="533520" cy="3808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8"/>
          <p:cNvSpPr/>
          <p:nvPr/>
        </p:nvSpPr>
        <p:spPr>
          <a:xfrm>
            <a:off x="5105520" y="1523880"/>
            <a:ext cx="380880" cy="3049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"/>
          <p:cNvSpPr/>
          <p:nvPr/>
        </p:nvSpPr>
        <p:spPr>
          <a:xfrm>
            <a:off x="0" y="3429000"/>
            <a:ext cx="5638680" cy="8380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5029200" y="1600200"/>
            <a:ext cx="609480" cy="26668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134640" cy="2619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3" descr=""/>
          <p:cNvPicPr/>
          <p:nvPr/>
        </p:nvPicPr>
        <p:blipFill>
          <a:blip r:embed="rId2"/>
          <a:stretch/>
        </p:blipFill>
        <p:spPr>
          <a:xfrm>
            <a:off x="0" y="3352680"/>
            <a:ext cx="9020160" cy="287676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9"/>
          <p:cNvSpPr/>
          <p:nvPr/>
        </p:nvSpPr>
        <p:spPr>
          <a:xfrm>
            <a:off x="380880" y="4620600"/>
            <a:ext cx="3581640" cy="22284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arameters: n=10,  </a:t>
            </a:r>
            <a:r>
              <a:rPr b="0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To find P(X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2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0)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0.02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1)  = 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0.12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2) 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0.23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P(X</a:t>
            </a: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2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4"/>
          <p:cNvSpPr/>
          <p:nvPr/>
        </p:nvSpPr>
        <p:spPr>
          <a:xfrm>
            <a:off x="4952880" y="3429000"/>
            <a:ext cx="76212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6"/>
          <p:cNvSpPr/>
          <p:nvPr/>
        </p:nvSpPr>
        <p:spPr>
          <a:xfrm>
            <a:off x="0" y="3429000"/>
            <a:ext cx="533520" cy="3808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8"/>
          <p:cNvSpPr/>
          <p:nvPr/>
        </p:nvSpPr>
        <p:spPr>
          <a:xfrm>
            <a:off x="5105520" y="1523880"/>
            <a:ext cx="380880" cy="3049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5"/>
          <p:cNvSpPr/>
          <p:nvPr/>
        </p:nvSpPr>
        <p:spPr>
          <a:xfrm>
            <a:off x="0" y="3429000"/>
            <a:ext cx="5638680" cy="8380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5029200" y="1600200"/>
            <a:ext cx="609480" cy="26668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5"/>
          <p:cNvSpPr/>
          <p:nvPr/>
        </p:nvSpPr>
        <p:spPr>
          <a:xfrm>
            <a:off x="457200" y="6477120"/>
            <a:ext cx="304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134640" cy="26193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3" descr=""/>
          <p:cNvPicPr/>
          <p:nvPr/>
        </p:nvPicPr>
        <p:blipFill>
          <a:blip r:embed="rId2"/>
          <a:stretch/>
        </p:blipFill>
        <p:spPr>
          <a:xfrm>
            <a:off x="0" y="3352680"/>
            <a:ext cx="9020160" cy="287676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9"/>
          <p:cNvSpPr/>
          <p:nvPr/>
        </p:nvSpPr>
        <p:spPr>
          <a:xfrm>
            <a:off x="380880" y="4620600"/>
            <a:ext cx="3581640" cy="22284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arameters: n=10,  </a:t>
            </a:r>
            <a:r>
              <a:rPr b="0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To find P(X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2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0)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0.02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1)  = 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0.12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2) 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0.23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P(X</a:t>
            </a: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2) = 0.38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4"/>
          <p:cNvSpPr/>
          <p:nvPr/>
        </p:nvSpPr>
        <p:spPr>
          <a:xfrm>
            <a:off x="4952880" y="3429000"/>
            <a:ext cx="76212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6"/>
          <p:cNvSpPr/>
          <p:nvPr/>
        </p:nvSpPr>
        <p:spPr>
          <a:xfrm>
            <a:off x="0" y="3429000"/>
            <a:ext cx="533520" cy="3808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8"/>
          <p:cNvSpPr/>
          <p:nvPr/>
        </p:nvSpPr>
        <p:spPr>
          <a:xfrm>
            <a:off x="5105520" y="1523880"/>
            <a:ext cx="380880" cy="3049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0" y="3429000"/>
            <a:ext cx="5638680" cy="8380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7"/>
          <p:cNvSpPr/>
          <p:nvPr/>
        </p:nvSpPr>
        <p:spPr>
          <a:xfrm>
            <a:off x="5029200" y="1600200"/>
            <a:ext cx="609480" cy="26668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traight Connector 15"/>
          <p:cNvSpPr/>
          <p:nvPr/>
        </p:nvSpPr>
        <p:spPr>
          <a:xfrm>
            <a:off x="457200" y="6477120"/>
            <a:ext cx="304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4"/>
          <p:cNvSpPr/>
          <p:nvPr/>
        </p:nvSpPr>
        <p:spPr>
          <a:xfrm>
            <a:off x="1676520" y="2666880"/>
            <a:ext cx="114300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E.g. Calculate  P 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for n=10, </a:t>
            </a:r>
            <a:r>
              <a:rPr b="0" lang="en-NZ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P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 = P(X=0) + P(X=1) + P(X=2)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~ look up 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4"/>
          <p:cNvSpPr/>
          <p:nvPr/>
        </p:nvSpPr>
        <p:spPr>
          <a:xfrm>
            <a:off x="1676520" y="2666880"/>
            <a:ext cx="114300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E.g. Calculate  P 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for n=10, </a:t>
            </a:r>
            <a:r>
              <a:rPr b="0" lang="en-NZ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P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 = P(X=0) + P(X=1) + P(X=2)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~ look up 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1" lang="en-NZ" sz="2800" spc="-1" strike="noStrike">
                <a:solidFill>
                  <a:srgbClr val="ff0000"/>
                </a:solidFill>
                <a:latin typeface="Arial"/>
              </a:rPr>
              <a:t>0.0282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4"/>
          <p:cNvSpPr/>
          <p:nvPr/>
        </p:nvSpPr>
        <p:spPr>
          <a:xfrm>
            <a:off x="3200400" y="2666880"/>
            <a:ext cx="114300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E.g. Calculate  P 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for n=10, </a:t>
            </a:r>
            <a:r>
              <a:rPr b="0" lang="en-NZ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P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 = P(X=0) + P(X=1) + P(X=2)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~ look up 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0.0282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4"/>
          <p:cNvSpPr/>
          <p:nvPr/>
        </p:nvSpPr>
        <p:spPr>
          <a:xfrm>
            <a:off x="3200400" y="2666880"/>
            <a:ext cx="114300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E.g. Calculate  P 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for n=10, </a:t>
            </a:r>
            <a:r>
              <a:rPr b="0" lang="en-NZ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P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 = P(X=0) + P(X=1) + P(X=2)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~ look up 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0.0282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4"/>
          <p:cNvSpPr/>
          <p:nvPr/>
        </p:nvSpPr>
        <p:spPr>
          <a:xfrm>
            <a:off x="3200400" y="2666880"/>
            <a:ext cx="114300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E.g. Calculate  P 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for n=10, </a:t>
            </a:r>
            <a:r>
              <a:rPr b="0" lang="en-NZ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P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 = P(X=0) + P(X=1) + P(X=2)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~ look up 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0.0282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1" lang="en-NZ" sz="2800" spc="-1" strike="noStrike">
                <a:solidFill>
                  <a:srgbClr val="ff0000"/>
                </a:solidFill>
                <a:latin typeface="Arial"/>
              </a:rPr>
              <a:t>0.1211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4"/>
          <p:cNvSpPr/>
          <p:nvPr/>
        </p:nvSpPr>
        <p:spPr>
          <a:xfrm>
            <a:off x="4724280" y="2666880"/>
            <a:ext cx="114300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E.g. Calculate  P 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for n=10, </a:t>
            </a:r>
            <a:r>
              <a:rPr b="0" lang="en-NZ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P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 = P(X=0) + P(X=1) + P(X=2)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~ look up 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0.0282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0.1211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228240" y="9903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0" y="609480"/>
            <a:ext cx="9144000" cy="618804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 u="sng">
                <a:solidFill>
                  <a:srgbClr val="000000"/>
                </a:solidFill>
                <a:uFillTx/>
                <a:latin typeface="Comic Sans MS"/>
              </a:rPr>
              <a:t>The BINOMIAL DISTRIBUTION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Used for situations where we’re running a series of trials, each of which has TWO POSSIBLE OUTCOMES – success and failure (e.g. tossing a coin – if you call ‘heads’ each time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We use the </a:t>
            </a: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Binomial Distribution 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to work out the probability of getting a </a:t>
            </a:r>
            <a:r>
              <a:rPr b="1" i="1" lang="en-NZ" sz="2500" spc="-1" strike="noStrike">
                <a:solidFill>
                  <a:srgbClr val="000000"/>
                </a:solidFill>
                <a:latin typeface="Comic Sans MS"/>
              </a:rPr>
              <a:t>particular number 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of </a:t>
            </a: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successful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 outcomes (e.g. 6 heads if we toss a coin 10 times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4"/>
          <p:cNvSpPr/>
          <p:nvPr/>
        </p:nvSpPr>
        <p:spPr>
          <a:xfrm>
            <a:off x="4724280" y="2666880"/>
            <a:ext cx="114300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E.g. Calculate  P 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for n=10, </a:t>
            </a:r>
            <a:r>
              <a:rPr b="0" lang="en-NZ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P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 = P(X=0) + P(X=1) + P(X=2)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~ look up 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0.0282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0.1211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4"/>
          <p:cNvSpPr/>
          <p:nvPr/>
        </p:nvSpPr>
        <p:spPr>
          <a:xfrm>
            <a:off x="4724280" y="2666880"/>
            <a:ext cx="114300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E.g. Calculate  P 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for n=10, </a:t>
            </a:r>
            <a:r>
              <a:rPr b="0" lang="en-NZ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P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 = P(X=0) + P(X=1) + P(X=2)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~ look up 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0.0282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0.1211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1" lang="en-NZ" sz="2800" spc="-1" strike="noStrike">
                <a:solidFill>
                  <a:srgbClr val="ff0000"/>
                </a:solidFill>
                <a:latin typeface="Arial"/>
              </a:rPr>
              <a:t>0.23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E.g. Calculate  P 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for n=10, </a:t>
            </a:r>
            <a:r>
              <a:rPr b="0" lang="en-NZ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P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 = P(X=0) + P(X=1) + P(X=2)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~ look up 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0.0282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0.1211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0.23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1" lang="en-NZ" sz="2800" spc="-1" strike="noStrike" u="sng">
                <a:solidFill>
                  <a:srgbClr val="ff0000"/>
                </a:solidFill>
                <a:uFillTx/>
                <a:latin typeface="Arial"/>
              </a:rPr>
              <a:t>0.3828 </a:t>
            </a:r>
            <a:r>
              <a:rPr b="1" lang="en-NZ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NZ" sz="2800" spc="-1" strike="noStrike">
                <a:solidFill>
                  <a:srgbClr val="ff0000"/>
                </a:solidFill>
                <a:latin typeface="Arial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6"/>
          <p:cNvSpPr/>
          <p:nvPr/>
        </p:nvSpPr>
        <p:spPr>
          <a:xfrm>
            <a:off x="304920" y="4343400"/>
            <a:ext cx="8458200" cy="2514600"/>
          </a:xfrm>
          <a:prstGeom prst="rect">
            <a:avLst/>
          </a:prstGeom>
          <a:solidFill>
            <a:srgbClr val="ffffff"/>
          </a:solidFill>
          <a:ln w="92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 NuLake pg. 285 and 286: Q4</a:t>
            </a:r>
            <a:r>
              <a:rPr b="0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xtension people:  Q4</a:t>
            </a:r>
            <a:r>
              <a:rPr b="0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.  Q12</a:t>
            </a:r>
            <a:r>
              <a:rPr b="0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9 involve intersections and unions with 2 or more independent ev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esson 10:  Practice calculating Binomial prob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Learning Outcomes:  Practice calculating Binomial probabilities for 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combine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events and become confident at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How to use your G.C. to calculate binomial proba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Finish NuLake pg. 285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28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Do Sigma (must be in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ol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editi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Ex. 5.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Yesterday’s example: Calculate  P 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for n=10, </a:t>
            </a:r>
            <a:r>
              <a:rPr b="0" lang="en-NZ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P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 = P(X=0) + P(X=1) + P(X=2)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~ look up 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0.0282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0.1211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0.23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1" lang="en-NZ" sz="2800" spc="-1" strike="noStrike" u="sng">
                <a:solidFill>
                  <a:srgbClr val="ff0000"/>
                </a:solidFill>
                <a:uFillTx/>
                <a:latin typeface="Arial"/>
              </a:rPr>
              <a:t>0.3828 </a:t>
            </a:r>
            <a:r>
              <a:rPr b="1" lang="en-NZ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NZ" sz="2800" spc="-1" strike="noStrike">
                <a:solidFill>
                  <a:srgbClr val="ff0000"/>
                </a:solidFill>
                <a:latin typeface="Arial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ff0000"/>
                </a:solidFill>
                <a:latin typeface="Arial"/>
              </a:rPr>
              <a:t>BUT…  there is a much faster w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 on your G. Calc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Yesterday’s example: Calculate  P (X</a:t>
            </a:r>
            <a:r>
              <a:rPr b="0" lang="en-NZ" sz="1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2) for n=10, </a:t>
            </a:r>
            <a:r>
              <a:rPr b="0" lang="en-NZ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P(X</a:t>
            </a:r>
            <a:r>
              <a:rPr b="0" lang="en-NZ" sz="1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2)  =  P(X=0) + P(X=1) + P(X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0282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1211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23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1" lang="en-NZ" sz="1800" spc="-1" strike="noStrike" u="sng">
                <a:solidFill>
                  <a:srgbClr val="ff0000"/>
                </a:solidFill>
                <a:uFillTx/>
                <a:latin typeface="Arial"/>
              </a:rPr>
              <a:t>0.3828 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NZ" sz="1800" spc="-1" strike="noStrike">
                <a:solidFill>
                  <a:srgbClr val="ff0000"/>
                </a:solidFill>
                <a:latin typeface="Arial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ff0000"/>
                </a:solidFill>
                <a:latin typeface="Arial"/>
              </a:rPr>
              <a:t>BUT…  there is a much faster wa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304920" y="2971800"/>
            <a:ext cx="883908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 on your G. Calc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Yesterday’s example: Calculate  P (X</a:t>
            </a:r>
            <a:r>
              <a:rPr b="0" lang="en-NZ" sz="1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2) for n=10, </a:t>
            </a:r>
            <a:r>
              <a:rPr b="0" lang="en-NZ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P(X</a:t>
            </a:r>
            <a:r>
              <a:rPr b="0" lang="en-NZ" sz="1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2)  =  P(X=0) + P(X=1) + P(X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0282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1211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23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1" lang="en-NZ" sz="1800" spc="-1" strike="noStrike" u="sng">
                <a:solidFill>
                  <a:srgbClr val="ff0000"/>
                </a:solidFill>
                <a:uFillTx/>
                <a:latin typeface="Arial"/>
              </a:rPr>
              <a:t>0.3828 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NZ" sz="1800" spc="-1" strike="noStrike">
                <a:solidFill>
                  <a:srgbClr val="ff0000"/>
                </a:solidFill>
                <a:latin typeface="Arial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ff0000"/>
                </a:solidFill>
                <a:latin typeface="Arial"/>
              </a:rPr>
              <a:t>BUT…  there is a much faster wa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304920" y="2971800"/>
            <a:ext cx="883908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On your Graphics Calcula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TAT,  DIST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like you did for the Normal D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INM (F5)      (Binomial distrib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n-NZ" sz="24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ulativ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probabilities, e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(X ≤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ata: Variab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” means </a:t>
            </a:r>
            <a:r>
              <a:rPr b="1" i="1" lang="en-N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&lt;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    Enter what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is LESS THAN OR EQUAL 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B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nomial probabilities,  eg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(X=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umul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probabilities,  e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(X ≤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 on your G. Calc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304920" y="838080"/>
            <a:ext cx="8839080" cy="403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On your Graphics Calcula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TAT,  DIST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like you did for the Normal D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INM (F5)      (Binomial distrib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n-NZ" sz="24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ulativ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probabilities, e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(X ≤ 2)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ata: Variab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” means </a:t>
            </a:r>
            <a:r>
              <a:rPr b="1" i="1" lang="en-N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&lt;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    Enter what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is LESS THAN OR EQUAL 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B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nomial probabilities,  eg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(X=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umul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probabilities,  e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(X ≤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304920" y="525780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0" y="495288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E.g. for previous example:  Calculate  P (X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2) for n=10, </a:t>
            </a:r>
            <a:r>
              <a:rPr b="0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=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Under B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cd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  Enter </a:t>
            </a:r>
            <a:r>
              <a:rPr b="1" i="1" lang="en-N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: 2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   This means </a:t>
            </a:r>
            <a:r>
              <a:rPr b="1" i="1" lang="en-NZ" sz="24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Times New Roman"/>
              </a:rPr>
              <a:t>&lt;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 2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ype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execute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Comic Sans MS"/>
              </a:rPr>
              <a:t>Check that you get  0.382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1371600"/>
          </a:xfrm>
          <a:prstGeom prst="rect">
            <a:avLst/>
          </a:prstGeom>
          <a:solidFill>
            <a:srgbClr val="ccffff"/>
          </a:solidFill>
          <a:ln w="921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Finish NuLake pg. 286</a:t>
            </a:r>
            <a:r>
              <a:rPr b="0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288 (right up to Q1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hen Sigma  (must be in old edition):  Ex. 5.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0" dur="1" fill="hold"/>
                                  <p:tgtEl>
                                    <p:spTgt spid="6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01" dur="1" fill="hold"/>
                                  <p:tgtEl>
                                    <p:spTgt spid="6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02" dur="1" fill="hold"/>
                                  <p:tgtEl>
                                    <p:spTgt spid="6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esson 11:  Solve 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inverse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Binomial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Distribution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alculate the number of trials required for the probability of getting at least </a:t>
            </a:r>
            <a:r>
              <a:rPr b="0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uccesses to be at a certain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alculate </a:t>
            </a:r>
            <a:r>
              <a:rPr b="0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, the probability of success in a single trial if told the probability of </a:t>
            </a:r>
            <a:r>
              <a:rPr b="0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successes in 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r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6"/>
          <p:cNvSpPr/>
          <p:nvPr/>
        </p:nvSpPr>
        <p:spPr>
          <a:xfrm>
            <a:off x="457200" y="4648320"/>
            <a:ext cx="8458200" cy="190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2 Examples as class, t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Old Sigma (2</a:t>
            </a:r>
            <a:r>
              <a:rPr b="0" lang="en-NZ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 ed): Pg. 73 – Ex. 5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2"/>
          <p:cNvSpPr/>
          <p:nvPr/>
        </p:nvSpPr>
        <p:spPr>
          <a:xfrm>
            <a:off x="0" y="838080"/>
            <a:ext cx="9144000" cy="35816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"/>
          <p:cNvSpPr/>
          <p:nvPr/>
        </p:nvSpPr>
        <p:spPr>
          <a:xfrm>
            <a:off x="0" y="1220760"/>
            <a:ext cx="914400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.g.1: A teacher tosses a pair of dice at the start of every lesson and tells his class that they get a free period if he gets double si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Name the 2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of the Binomial Dis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would count as one trial?  Calculate the probability of success in a single t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How many times must the teacher do this for there to be at least a 50% chance of getting at least one free peri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verse Binomi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0" y="4419360"/>
            <a:ext cx="91440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umber of trials that result in double sixes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%    i.e.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0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not do it this way, so take the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ment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.e.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)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7"/>
          <p:cNvSpPr/>
          <p:nvPr/>
        </p:nvSpPr>
        <p:spPr>
          <a:xfrm>
            <a:off x="0" y="1981080"/>
            <a:ext cx="914400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Answer:  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 (number of trials)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nd   </a:t>
            </a:r>
            <a:r>
              <a:rPr b="1" i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 (prob. of success in any single tria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8"/>
          <p:cNvSpPr/>
          <p:nvPr/>
        </p:nvSpPr>
        <p:spPr>
          <a:xfrm>
            <a:off x="0" y="3048120"/>
            <a:ext cx="914400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Answer: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One trial: tossing the pair of dice o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= P(double sixes)  =  1/36   assuming the dice are both f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Object 8"/>
              <p:cNvSpPr txBox="1"/>
              <p:nvPr/>
            </p:nvSpPr>
            <p:spPr>
              <a:xfrm>
                <a:off x="4572000" y="5562720"/>
                <a:ext cx="23623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Object 10"/>
              <p:cNvSpPr txBox="1"/>
              <p:nvPr/>
            </p:nvSpPr>
            <p:spPr>
              <a:xfrm>
                <a:off x="4876920" y="6172200"/>
                <a:ext cx="2020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228240" y="9903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0" y="0"/>
            <a:ext cx="9144000" cy="73414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 u="sng">
                <a:solidFill>
                  <a:srgbClr val="000000"/>
                </a:solidFill>
                <a:uFillTx/>
                <a:latin typeface="Comic Sans MS"/>
              </a:rPr>
              <a:t>The BINOMIAL DISTRIBUTION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Used for situations where we’re running a series of trials, each of which has TWO POSSIBLE OUTCOMES – success and failure (e.g. tossing a coin – if you call ‘heads’ each time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We use the </a:t>
            </a: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Binomial Distribution 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to work out the probability of getting a </a:t>
            </a:r>
            <a:r>
              <a:rPr b="1" i="1" lang="en-NZ" sz="2500" spc="-1" strike="noStrike">
                <a:solidFill>
                  <a:srgbClr val="000000"/>
                </a:solidFill>
                <a:latin typeface="Comic Sans MS"/>
              </a:rPr>
              <a:t>particular number 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of </a:t>
            </a: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successful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 outcomes (e.g. 6 heads if we toss a coin 10 times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4 requirements for using the Binomial Distribution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(1.)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Fixed number, </a:t>
            </a:r>
            <a:r>
              <a:rPr b="1" i="1" lang="en-NZ" sz="25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, of identical tria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(2.)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2 Possible Outcomes for each trial (</a:t>
            </a:r>
            <a:r>
              <a:rPr b="0" lang="en-NZ" sz="2500" spc="-1" strike="noStrike">
                <a:solidFill>
                  <a:srgbClr val="ff0000"/>
                </a:solidFill>
                <a:latin typeface="Comic Sans MS"/>
              </a:rPr>
              <a:t>success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NZ" sz="2500" spc="-1" strike="noStrike">
                <a:solidFill>
                  <a:srgbClr val="0000ff"/>
                </a:solidFill>
                <a:latin typeface="Comic Sans MS"/>
              </a:rPr>
              <a:t>failure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(3.)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Trials are INDEPEND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(4.)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Probability of success, </a:t>
            </a:r>
            <a:r>
              <a:rPr b="1" i="1" lang="el-GR" sz="25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, is the same for each tri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500" spc="-1" strike="noStrike">
                <a:solidFill>
                  <a:srgbClr val="000000"/>
                </a:solidFill>
                <a:latin typeface="Comic Sans MS"/>
              </a:rPr>
              <a:t>HINT:  Use </a:t>
            </a:r>
            <a:r>
              <a:rPr b="1" i="1" lang="en-NZ" sz="2500" spc="-1" strike="noStrike">
                <a:solidFill>
                  <a:srgbClr val="000000"/>
                </a:solidFill>
                <a:latin typeface="Comic Sans MS"/>
              </a:rPr>
              <a:t>In</a:t>
            </a:r>
            <a:r>
              <a:rPr b="0" i="1" lang="en-NZ" sz="2500" spc="-1" strike="noStrike">
                <a:solidFill>
                  <a:srgbClr val="000000"/>
                </a:solidFill>
                <a:latin typeface="Comic Sans MS"/>
              </a:rPr>
              <a:t>ternational  </a:t>
            </a:r>
            <a:r>
              <a:rPr b="1" i="1" lang="en-NZ" sz="25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NZ" sz="2500" spc="-1" strike="noStrike">
                <a:solidFill>
                  <a:srgbClr val="000000"/>
                </a:solidFill>
                <a:latin typeface="Comic Sans MS"/>
              </a:rPr>
              <a:t>ight   </a:t>
            </a:r>
            <a:r>
              <a:rPr b="1" i="1" lang="en-NZ" sz="25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i="1" lang="en-NZ" sz="2500" spc="-1" strike="noStrike">
                <a:solidFill>
                  <a:srgbClr val="000000"/>
                </a:solidFill>
                <a:latin typeface="Comic Sans MS"/>
              </a:rPr>
              <a:t>lub  </a:t>
            </a:r>
            <a:r>
              <a:rPr b="1" i="1" lang="en-NZ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4"/>
          <p:cNvSpPr/>
          <p:nvPr/>
        </p:nvSpPr>
        <p:spPr>
          <a:xfrm>
            <a:off x="0" y="-379800"/>
            <a:ext cx="91440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b)  What would count as one trial?  Calculate the probability of success in a single t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c)   How many times must the teacher do this for there to be at least a 50% chance of getting at least one free peri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0" y="2514240"/>
            <a:ext cx="91440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umber of trials that result in double sixes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%    i.e.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0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not do it this way, so take the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ment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.e.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)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8"/>
          <p:cNvSpPr/>
          <p:nvPr/>
        </p:nvSpPr>
        <p:spPr>
          <a:xfrm>
            <a:off x="0" y="609480"/>
            <a:ext cx="914400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Answer: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One trial: tossing the pair of dice o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= P(double sixes)  =  1/36   assuming the dice are both f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Object 8"/>
              <p:cNvSpPr txBox="1"/>
              <p:nvPr/>
            </p:nvSpPr>
            <p:spPr>
              <a:xfrm>
                <a:off x="4829040" y="3733920"/>
                <a:ext cx="23623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Object 9"/>
              <p:cNvSpPr txBox="1"/>
              <p:nvPr/>
            </p:nvSpPr>
            <p:spPr>
              <a:xfrm>
                <a:off x="6048360" y="4952880"/>
                <a:ext cx="12304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Object 10"/>
              <p:cNvSpPr txBox="1"/>
              <p:nvPr/>
            </p:nvSpPr>
            <p:spPr>
              <a:xfrm>
                <a:off x="5210280" y="4343400"/>
                <a:ext cx="2020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Object 11"/>
              <p:cNvSpPr txBox="1"/>
              <p:nvPr/>
            </p:nvSpPr>
            <p:spPr>
              <a:xfrm>
                <a:off x="5638680" y="5791320"/>
                <a:ext cx="18525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4"/>
          <p:cNvSpPr/>
          <p:nvPr/>
        </p:nvSpPr>
        <p:spPr>
          <a:xfrm>
            <a:off x="0" y="3960"/>
            <a:ext cx="9144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c)   How many times must the teacher do this for there to be at least a 50% chance of getting at least one free peri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umber of trials that result in double sixes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%    i.e.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0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not do it this way, so take the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ment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.e.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)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13"/>
          <p:cNvSpPr/>
          <p:nvPr/>
        </p:nvSpPr>
        <p:spPr>
          <a:xfrm>
            <a:off x="0" y="6248520"/>
            <a:ext cx="914400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Answer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: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Must be a whole number. So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= 25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is the minimum number of trials before 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1" i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)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drops below 0.5 – i.e. 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1" i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NZ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xceeds 0.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Object 8"/>
              <p:cNvSpPr txBox="1"/>
              <p:nvPr/>
            </p:nvSpPr>
            <p:spPr>
              <a:xfrm>
                <a:off x="4800600" y="2209680"/>
                <a:ext cx="23623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Object 9"/>
              <p:cNvSpPr txBox="1"/>
              <p:nvPr/>
            </p:nvSpPr>
            <p:spPr>
              <a:xfrm>
                <a:off x="6019920" y="3429000"/>
                <a:ext cx="12301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Object 10"/>
              <p:cNvSpPr txBox="1"/>
              <p:nvPr/>
            </p:nvSpPr>
            <p:spPr>
              <a:xfrm>
                <a:off x="5181480" y="2819520"/>
                <a:ext cx="2021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5" name="Object 11"/>
              <p:cNvSpPr txBox="1"/>
              <p:nvPr/>
            </p:nvSpPr>
            <p:spPr>
              <a:xfrm>
                <a:off x="5610240" y="4267080"/>
                <a:ext cx="185256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6" name="Object 12"/>
              <p:cNvSpPr txBox="1"/>
              <p:nvPr/>
            </p:nvSpPr>
            <p:spPr>
              <a:xfrm>
                <a:off x="6400800" y="4876920"/>
                <a:ext cx="12492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7" name="Object 13"/>
              <p:cNvSpPr txBox="1"/>
              <p:nvPr/>
            </p:nvSpPr>
            <p:spPr>
              <a:xfrm>
                <a:off x="6537240" y="5867280"/>
                <a:ext cx="117324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 txBox="1"/>
          <p:nvPr/>
        </p:nvSpPr>
        <p:spPr>
          <a:xfrm>
            <a:off x="0" y="-360"/>
            <a:ext cx="914400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umber of trials that result in double sixes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%    i.e.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0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not do it this way, so take the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ment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.e.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)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3"/>
          <p:cNvSpPr/>
          <p:nvPr/>
        </p:nvSpPr>
        <p:spPr>
          <a:xfrm>
            <a:off x="0" y="4952880"/>
            <a:ext cx="914400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Answer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: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Must be a whole number. So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= 25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is the minimum number of trials before 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1" i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)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drops below 0.5 – i.e. 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1" i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NZ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xceeds 0.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2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4"/>
          <p:cNvSpPr/>
          <p:nvPr/>
        </p:nvSpPr>
        <p:spPr>
          <a:xfrm>
            <a:off x="0" y="53866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d)   Another teacher flips a pair of coins every lesson, giving out chocolates to everyone whenever both come up tails.  He only has enough chocolates to give them out to the clas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 tim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   He wants to keep the prob. of it happen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an 3 times to below 0.1.  What’s the greatest number of trials he can afford to 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2" name="Object 8"/>
              <p:cNvSpPr txBox="1"/>
              <p:nvPr/>
            </p:nvSpPr>
            <p:spPr>
              <a:xfrm>
                <a:off x="4800600" y="990720"/>
                <a:ext cx="23623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3" name="Object 9"/>
              <p:cNvSpPr txBox="1"/>
              <p:nvPr/>
            </p:nvSpPr>
            <p:spPr>
              <a:xfrm>
                <a:off x="6019920" y="2209680"/>
                <a:ext cx="12301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Object 10"/>
              <p:cNvSpPr txBox="1"/>
              <p:nvPr/>
            </p:nvSpPr>
            <p:spPr>
              <a:xfrm>
                <a:off x="5181480" y="1600200"/>
                <a:ext cx="2021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Object 11"/>
              <p:cNvSpPr txBox="1"/>
              <p:nvPr/>
            </p:nvSpPr>
            <p:spPr>
              <a:xfrm>
                <a:off x="5610240" y="3048120"/>
                <a:ext cx="18525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Object 12"/>
              <p:cNvSpPr txBox="1"/>
              <p:nvPr/>
            </p:nvSpPr>
            <p:spPr>
              <a:xfrm>
                <a:off x="6400800" y="3657600"/>
                <a:ext cx="12492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Object 13"/>
              <p:cNvSpPr txBox="1"/>
              <p:nvPr/>
            </p:nvSpPr>
            <p:spPr>
              <a:xfrm>
                <a:off x="6537240" y="4648320"/>
                <a:ext cx="11732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0" y="0"/>
            <a:ext cx="914400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2"/>
          <p:cNvSpPr/>
          <p:nvPr/>
        </p:nvSpPr>
        <p:spPr>
          <a:xfrm>
            <a:off x="0" y="3048120"/>
            <a:ext cx="9144000" cy="1230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4"/>
          <p:cNvSpPr/>
          <p:nvPr/>
        </p:nvSpPr>
        <p:spPr>
          <a:xfrm>
            <a:off x="0" y="282456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d)   Another teacher flips a pair of coins every lesson, giving out chocolates to everyone whenever both come up tails.  He only has enough chocolates to give them out to the clas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 tim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   He wants to keep the prob. of it happen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an 3 times to below 0.1.  What’s the greatest number of trials he can afford to 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Content Placeholder 6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the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rgest possible number of trials, 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such th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3)   remains  below  0.1 ,    where  </a:t>
            </a:r>
            <a:r>
              <a:rPr b="1" i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(Both tails) = 0.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   remains  above 0.9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) +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) +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) +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)   &gt;    0.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blem:  We can’t solve this algebraically using the formula. </a:t>
            </a:r>
            <a:r>
              <a:rPr b="1" lang="en-NZ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lution: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fer to your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abl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r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GC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use guess-and-check.  Starting with 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3, calculate P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X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)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Do the same for 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4, then 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5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op when you get an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alue where P(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3) drops below 0.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16"/>
          <p:cNvSpPr/>
          <p:nvPr/>
        </p:nvSpPr>
        <p:spPr>
          <a:xfrm>
            <a:off x="0" y="2209680"/>
            <a:ext cx="914400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Answer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: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Must be a whole number. So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= 25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is the minimum number of trials before 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1" i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)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drops below 0.5 – i.e. 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1" i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NZ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xceeds 0.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Object 11"/>
              <p:cNvSpPr txBox="1"/>
              <p:nvPr/>
            </p:nvSpPr>
            <p:spPr>
              <a:xfrm>
                <a:off x="5638680" y="228600"/>
                <a:ext cx="18525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Object 12"/>
              <p:cNvSpPr txBox="1"/>
              <p:nvPr/>
            </p:nvSpPr>
            <p:spPr>
              <a:xfrm>
                <a:off x="6429240" y="838080"/>
                <a:ext cx="12495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Object 13"/>
              <p:cNvSpPr txBox="1"/>
              <p:nvPr/>
            </p:nvSpPr>
            <p:spPr>
              <a:xfrm>
                <a:off x="6566040" y="1828800"/>
                <a:ext cx="11728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2"/>
          <p:cNvSpPr/>
          <p:nvPr/>
        </p:nvSpPr>
        <p:spPr>
          <a:xfrm>
            <a:off x="0" y="228600"/>
            <a:ext cx="9144000" cy="12304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4"/>
          <p:cNvSpPr/>
          <p:nvPr/>
        </p:nvSpPr>
        <p:spPr>
          <a:xfrm>
            <a:off x="0" y="8136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d)   Another teacher flips a pair of coins every lesson, giving out chocolates to everyone whenever both come up tails.  He only has enough chocolates to give them out to the clas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 tim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   He wants to keep the prob. of it happen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an 3 times to below 0.1.  What’s the greatest number of trials he can afford to 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Content Placeholder 6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the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rgest possible number of trials, 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such th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3)   remains  below  0.1 ,    where  </a:t>
            </a:r>
            <a:r>
              <a:rPr b="1" i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(Both tails) = 0.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   remains  above 0.9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) +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) +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) +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)   &gt;    0.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blem:  We can’t solve this algebraically using the formula. </a:t>
            </a:r>
            <a:r>
              <a:rPr b="1" lang="en-NZ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lution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fer to your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able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r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GC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use guess-and-check.  Starting with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3, calculate P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X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)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Do the same for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4, then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5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op when you get an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alue where 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3) drops below 0.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3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2"/>
          <p:cNvSpPr/>
          <p:nvPr/>
        </p:nvSpPr>
        <p:spPr>
          <a:xfrm>
            <a:off x="0" y="228600"/>
            <a:ext cx="9144000" cy="12304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4"/>
          <p:cNvSpPr/>
          <p:nvPr/>
        </p:nvSpPr>
        <p:spPr>
          <a:xfrm>
            <a:off x="0" y="8136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d)   Another teacher flips a pair of coins every lesson, giving out chocolates to everyone whenever both come up tails.  He only has enough chocolates to give them out to the clas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 tim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   He wants to keep the prob. of it happen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an 3 times to below 0.1.  What’s the greatest number of trials he can afford to 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Content Placeholder 6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the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rgest possible number of trials, 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such th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3)   remains  below  0.1 ,    where  </a:t>
            </a:r>
            <a:r>
              <a:rPr b="1" i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(Both tails) = 0.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   remains  above 0.9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) +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) +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) +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)   &gt;    0.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blem:  We can’t solve this algebraically using the formula. </a:t>
            </a:r>
            <a:r>
              <a:rPr b="1" lang="en-NZ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lution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fer to your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able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r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GC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use guess-and-check.  Starting with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3, calculate P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X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)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Do the same for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4, then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5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op when you get an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alue where 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3) drops below 0.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3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= </a:t>
            </a:r>
            <a:r>
              <a:rPr b="0" lang="en-N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4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= </a:t>
            </a:r>
            <a:r>
              <a:rPr b="0" lang="en-N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0.996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5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= </a:t>
            </a:r>
            <a:r>
              <a:rPr b="0" lang="en-N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0.98437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Try something a bit highe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=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= </a:t>
            </a:r>
            <a:r>
              <a:rPr b="0" lang="en-N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0.92944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Getting close now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8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= 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88618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TOP.  Below 0.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0" y="228600"/>
            <a:ext cx="9144000" cy="12304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4"/>
          <p:cNvSpPr/>
          <p:nvPr/>
        </p:nvSpPr>
        <p:spPr>
          <a:xfrm>
            <a:off x="0" y="8136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d)   Another teacher flips a pair of coins every lesson, giving out chocolates to everyone whenever both come up tails.  He only has enough chocolates to give them out to the clas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 tim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   He wants to keep the prob. of it happen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an 3 times to below 0.1.  What’s the greatest number of trials he can afford to 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Content Placeholder 6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the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rgest possible number of trials, 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such th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3)   remains  below  0.1 ,    where  </a:t>
            </a:r>
            <a:r>
              <a:rPr b="1" i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(Both tails) = 0.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   remains  above 0.9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) +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) +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) +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)   &gt;    0.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blem:  We can’t solve this algebraically using the formula. </a:t>
            </a:r>
            <a:r>
              <a:rPr b="1" lang="en-NZ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lution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fer to your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able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r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GC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use guess-and-check.  Starting with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3, calculate P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X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)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Do the same for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4, then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5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op when you get an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alue where 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3) drops below 0.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3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= </a:t>
            </a:r>
            <a:r>
              <a:rPr b="0" lang="en-N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4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= </a:t>
            </a:r>
            <a:r>
              <a:rPr b="0" lang="en-N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0.996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5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= </a:t>
            </a:r>
            <a:r>
              <a:rPr b="0" lang="en-N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0.98437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Try something a bit highe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=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= </a:t>
            </a:r>
            <a:r>
              <a:rPr b="0" lang="en-N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0.92944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Getting close now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8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= 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88618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TOP.  Below 0.9.   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.e. P(X&gt;3) =  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0.886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2"/>
          <p:cNvSpPr/>
          <p:nvPr/>
        </p:nvSpPr>
        <p:spPr>
          <a:xfrm>
            <a:off x="0" y="228600"/>
            <a:ext cx="9144000" cy="12304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0" y="8136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d)   Another teacher flips a pair of coins every lesson, giving out chocolates to everyone whenever both come up tails.  He only has enough chocolates to give them out to the clas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 tim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   He wants to keep the prob. of it happen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an 3 times to below 0.1.  What’s the greatest number of trials he can afford to 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Content Placeholder 6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the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rgest possible number of trials, 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such th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3)   remains  below  0.1 ,    where  </a:t>
            </a:r>
            <a:r>
              <a:rPr b="1" i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(Both tails) = 0.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   remains  above 0.9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) +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) +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) +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)   &gt;    0.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blem:  We can’t solve this algebraically using the formula. </a:t>
            </a:r>
            <a:r>
              <a:rPr b="1" lang="en-NZ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lution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fer to your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able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r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GC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use guess-and-check.  Starting with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3, calculate P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X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)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Do the same for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4, then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5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op when you get an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alue where 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3) drops below 0.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3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= </a:t>
            </a:r>
            <a:r>
              <a:rPr b="0" lang="en-N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4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= </a:t>
            </a:r>
            <a:r>
              <a:rPr b="0" lang="en-N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0.996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5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= </a:t>
            </a:r>
            <a:r>
              <a:rPr b="0" lang="en-N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0.98437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Try something a bit highe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=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= </a:t>
            </a:r>
            <a:r>
              <a:rPr b="0" lang="en-N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0.92944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Getting close now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8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= 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88618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TOP.  Below 0.9.   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.e. P(X&gt;3) =   0.11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15"/>
          <p:cNvSpPr/>
          <p:nvPr/>
        </p:nvSpPr>
        <p:spPr>
          <a:xfrm>
            <a:off x="0" y="6019920"/>
            <a:ext cx="9144000" cy="6426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swer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max. number of times the teacher can flip the pair of coins is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 7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fter this, the probability of getting double tails more than 3 times exceeds 0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6"/>
          <p:cNvSpPr/>
          <p:nvPr/>
        </p:nvSpPr>
        <p:spPr>
          <a:xfrm>
            <a:off x="380880" y="228600"/>
            <a:ext cx="8458200" cy="2362320"/>
          </a:xfrm>
          <a:prstGeom prst="rect">
            <a:avLst/>
          </a:prstGeom>
          <a:solidFill>
            <a:srgbClr val="ffffcc"/>
          </a:solidFill>
          <a:ln w="92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py down e.g. &amp; working then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ld Sigma (2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ed): Pg. 73 – Ex. 5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Or new Sigma:   Pg. 326 – Ex. 15.0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0000"/>
                </a:solidFill>
                <a:latin typeface="Arial"/>
              </a:rPr>
              <a:t>Complete for H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esson 12:  Approximations 1:  Binomial approximated by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Learning outc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olve problems where the binomial distribution must be approximated by the normal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TARTER:  Re-cap of 4 requirements for use of the Binomial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Notes and demo using comparison of the 2 distributions on Exc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Do Sigma (old) – pg. 118 - Ex. 8.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Box 3"/>
          <p:cNvSpPr/>
          <p:nvPr/>
        </p:nvSpPr>
        <p:spPr>
          <a:xfrm>
            <a:off x="20520" y="3276720"/>
            <a:ext cx="9144000" cy="228852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Go into “play mode” to view slideshow as intend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Hold down SHIFT and click F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54" dur="1" fill="hold"/>
                                  <p:tgtEl>
                                    <p:spTgt spid="7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Warm-up quiz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9917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Q1: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List the 4 requirements for a discrete random variable to be modelled by the Binomial Dis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HINT:  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In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ternational  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ight  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lub  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0" y="1676520"/>
            <a:ext cx="9144000" cy="2771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The 4 requirements for a Binomial Distribution ar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(1.)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Fixed number, </a:t>
            </a:r>
            <a:r>
              <a:rPr b="1" i="1" lang="en-NZ" sz="25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, of identical tria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(2.)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2 Possible Outcomes for each trial (</a:t>
            </a:r>
            <a:r>
              <a:rPr b="0" lang="en-NZ" sz="2500" spc="-1" strike="noStrike">
                <a:solidFill>
                  <a:srgbClr val="ff0000"/>
                </a:solidFill>
                <a:latin typeface="Comic Sans MS"/>
              </a:rPr>
              <a:t>success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NZ" sz="2500" spc="-1" strike="noStrike">
                <a:solidFill>
                  <a:srgbClr val="0000ff"/>
                </a:solidFill>
                <a:latin typeface="Comic Sans MS"/>
              </a:rPr>
              <a:t>failure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(3.)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Trials are INDEPEND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(4.)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Probability of success, </a:t>
            </a:r>
            <a:r>
              <a:rPr b="1" i="1" lang="el-GR" sz="25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, is the same for each tri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6"/>
          <p:cNvSpPr/>
          <p:nvPr/>
        </p:nvSpPr>
        <p:spPr>
          <a:xfrm>
            <a:off x="42840" y="4667760"/>
            <a:ext cx="910116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Q2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f you toss a coin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100 tim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, use your G.C. to calculate the probability of getting a tail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less than 49 tim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Why can’t you use your tables for thi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6"/>
          <p:cNvSpPr/>
          <p:nvPr/>
        </p:nvSpPr>
        <p:spPr>
          <a:xfrm>
            <a:off x="42840" y="5905800"/>
            <a:ext cx="91011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Q3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Now try to calculate the probability of getting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less than 490 tail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from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1000 coin toss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   What happ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228240" y="9903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Text Box 3"/>
          <p:cNvSpPr/>
          <p:nvPr/>
        </p:nvSpPr>
        <p:spPr>
          <a:xfrm>
            <a:off x="0" y="0"/>
            <a:ext cx="9144000" cy="725004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We use the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Binomial Distribution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o work out the probability of getting a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particular number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f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uccessful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trials  (e.g. 6 heads if we toss a coin 10 ti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4 requirements for using the Binomial Distribution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(1.)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Fixed number, </a:t>
            </a:r>
            <a:r>
              <a:rPr b="1" i="1" lang="en-NZ" sz="25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, of identical tria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(2.)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2 Possible Outcomes for each trial (</a:t>
            </a:r>
            <a:r>
              <a:rPr b="0" lang="en-NZ" sz="2500" spc="-1" strike="noStrike">
                <a:solidFill>
                  <a:srgbClr val="ff0000"/>
                </a:solidFill>
                <a:latin typeface="Comic Sans MS"/>
              </a:rPr>
              <a:t>success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NZ" sz="2500" spc="-1" strike="noStrike">
                <a:solidFill>
                  <a:srgbClr val="0000ff"/>
                </a:solidFill>
                <a:latin typeface="Comic Sans MS"/>
              </a:rPr>
              <a:t>failure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(3.)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Trials are INDEPEND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(4.)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Probability of success, </a:t>
            </a:r>
            <a:r>
              <a:rPr b="1" i="1" lang="el-GR" sz="25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, is the same for each tri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500" spc="-1" strike="noStrike">
                <a:solidFill>
                  <a:srgbClr val="000000"/>
                </a:solidFill>
                <a:latin typeface="Comic Sans MS"/>
              </a:rPr>
              <a:t>HINT:  Use </a:t>
            </a:r>
            <a:r>
              <a:rPr b="1" i="1" lang="en-NZ" sz="2500" spc="-1" strike="noStrike">
                <a:solidFill>
                  <a:srgbClr val="000000"/>
                </a:solidFill>
                <a:latin typeface="Comic Sans MS"/>
              </a:rPr>
              <a:t>In</a:t>
            </a:r>
            <a:r>
              <a:rPr b="0" i="1" lang="en-NZ" sz="2500" spc="-1" strike="noStrike">
                <a:solidFill>
                  <a:srgbClr val="000000"/>
                </a:solidFill>
                <a:latin typeface="Comic Sans MS"/>
              </a:rPr>
              <a:t>ternational  </a:t>
            </a:r>
            <a:r>
              <a:rPr b="1" i="1" lang="en-NZ" sz="25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NZ" sz="2500" spc="-1" strike="noStrike">
                <a:solidFill>
                  <a:srgbClr val="000000"/>
                </a:solidFill>
                <a:latin typeface="Comic Sans MS"/>
              </a:rPr>
              <a:t>ight   </a:t>
            </a:r>
            <a:r>
              <a:rPr b="1" i="1" lang="en-NZ" sz="25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i="1" lang="en-NZ" sz="2500" spc="-1" strike="noStrike">
                <a:solidFill>
                  <a:srgbClr val="000000"/>
                </a:solidFill>
                <a:latin typeface="Comic Sans MS"/>
              </a:rPr>
              <a:t>lub  </a:t>
            </a:r>
            <a:r>
              <a:rPr b="1" i="1" lang="en-NZ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Comic Sans MS"/>
              </a:rPr>
              <a:t>E.g. Experiment: Drawing cards from a pack of 52 </a:t>
            </a:r>
            <a:r>
              <a:rPr b="1" i="1" lang="en-NZ" sz="2400" spc="-1" strike="noStrike">
                <a:solidFill>
                  <a:srgbClr val="333399"/>
                </a:solidFill>
                <a:latin typeface="Comic Sans MS"/>
              </a:rPr>
              <a:t>with</a:t>
            </a:r>
            <a:r>
              <a:rPr b="1" lang="en-NZ" sz="2400" spc="-1" strike="noStrike">
                <a:solidFill>
                  <a:srgbClr val="333399"/>
                </a:solidFill>
                <a:latin typeface="Comic Sans MS"/>
              </a:rPr>
              <a:t> replac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Comic Sans MS"/>
              </a:rPr>
              <a:t>4 trials by each class-member (</a:t>
            </a:r>
            <a:r>
              <a:rPr b="0" i="1" lang="en-NZ" sz="2400" spc="-1" strike="noStrike">
                <a:solidFill>
                  <a:srgbClr val="333399"/>
                </a:solidFill>
                <a:latin typeface="Comic Sans MS"/>
              </a:rPr>
              <a:t>with</a:t>
            </a:r>
            <a:r>
              <a:rPr b="0" lang="en-NZ" sz="2400" spc="-1" strike="noStrike">
                <a:solidFill>
                  <a:srgbClr val="333399"/>
                </a:solidFill>
                <a:latin typeface="Comic Sans MS"/>
              </a:rPr>
              <a:t> replacem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Comic Sans MS"/>
              </a:rPr>
              <a:t>1 Trial:  Drawing a card o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Comic Sans MS"/>
              </a:rPr>
              <a:t>2 Outcomes for each trial: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Comic Sans MS"/>
              </a:rPr>
              <a:t>heart</a:t>
            </a:r>
            <a:r>
              <a:rPr b="0" lang="en-NZ" sz="2400" spc="-1" strike="noStrike">
                <a:solidFill>
                  <a:srgbClr val="333399"/>
                </a:solidFill>
                <a:latin typeface="Comic Sans MS"/>
              </a:rPr>
              <a:t> or </a:t>
            </a:r>
            <a:r>
              <a:rPr b="1" lang="en-NZ" sz="2400" spc="-1" strike="noStrike" u="sng">
                <a:solidFill>
                  <a:srgbClr val="0000ff"/>
                </a:solidFill>
                <a:uFillTx/>
                <a:latin typeface="Comic Sans MS"/>
              </a:rPr>
              <a:t>not a 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Warm-up quiz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6"/>
          <p:cNvSpPr/>
          <p:nvPr/>
        </p:nvSpPr>
        <p:spPr>
          <a:xfrm>
            <a:off x="42840" y="918000"/>
            <a:ext cx="910116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Q2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f you toss a coin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100 tim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, use your G.C. to calculate the probability of getting a tail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less than 49 tim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Why can’t you use your tables for thi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6"/>
          <p:cNvSpPr/>
          <p:nvPr/>
        </p:nvSpPr>
        <p:spPr>
          <a:xfrm>
            <a:off x="42840" y="4421520"/>
            <a:ext cx="91011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Q3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Now try to calculate the probability of getting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less than 490 tail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from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1000 coin toss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   What happ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0" y="2361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We can’t calculate this using the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Binomial Distribution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with either our tables or G.C. as neither stores probabilities for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n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values this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But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Using the Normal Distribution to approximate the Binomi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6"/>
          <p:cNvSpPr/>
          <p:nvPr/>
        </p:nvSpPr>
        <p:spPr>
          <a:xfrm>
            <a:off x="304920" y="1371600"/>
            <a:ext cx="84582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E.g. You flip a fair coin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1000 times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.  What’s the probability of getting a tail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less than 490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1" dur="2000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Using the Normal Distribution to approximate the Binomi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6"/>
          <p:cNvSpPr/>
          <p:nvPr/>
        </p:nvSpPr>
        <p:spPr>
          <a:xfrm>
            <a:off x="304920" y="1371600"/>
            <a:ext cx="84582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E.g. You flip a fair coin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1000 times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.  What’s the probability of getting a tail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less than 490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0" y="2361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We can’t calculate this using the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Binomial Distribution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with either our tables or G.C. as neither stores probabilities for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n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values this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But… we can </a:t>
            </a:r>
            <a:r>
              <a:rPr b="1" i="1" lang="en-NZ" sz="2400" spc="-1" strike="noStrike" u="sng">
                <a:solidFill>
                  <a:srgbClr val="ff0000"/>
                </a:solidFill>
                <a:uFillTx/>
                <a:latin typeface="Comic Sans MS"/>
                <a:ea typeface="Tahoma"/>
              </a:rPr>
              <a:t>approximate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it using the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Comic Sans MS"/>
                <a:ea typeface="Tahoma"/>
              </a:rPr>
              <a:t>Normal Distribution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Using the Normal Distribution to approximate the Binomi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6"/>
          <p:cNvSpPr/>
          <p:nvPr/>
        </p:nvSpPr>
        <p:spPr>
          <a:xfrm>
            <a:off x="304920" y="1371600"/>
            <a:ext cx="84582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E.g. You flip a fair coin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1000 times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.  What’s the probability of getting a tail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less than 490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0" y="2361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We can’t calculate this using the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Binomial Distribution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with either our tables or G.C. as neither stores probabilities for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n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values this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But… we can </a:t>
            </a:r>
            <a:r>
              <a:rPr b="1" i="1" lang="en-NZ" sz="2400" spc="-1" strike="noStrike" u="sng">
                <a:solidFill>
                  <a:srgbClr val="ff0000"/>
                </a:solidFill>
                <a:uFillTx/>
                <a:latin typeface="Comic Sans MS"/>
                <a:ea typeface="Tahoma"/>
              </a:rPr>
              <a:t>approximate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it using the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Comic Sans MS"/>
                <a:ea typeface="Tahoma"/>
              </a:rPr>
              <a:t>Normal Distribution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can use the Normal Distribution to approximate Binomial probabilities w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very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is NOT extreme (not too close to 0 or 1) – so distribution is  symmetrical, not ske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HECK: The conditions that ensure this are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oth 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 ar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304920" y="0"/>
            <a:ext cx="84582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E.g. You flip a fair coin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1000 times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.  What’s the probability of getting a tail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less than 490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We can’t calculate this using the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Binomial Distribution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with either our tables or G.C. as neither stores probabilities for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n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values this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But… we can </a:t>
            </a:r>
            <a:r>
              <a:rPr b="1" i="1" lang="en-NZ" sz="2400" spc="-1" strike="noStrike" u="sng">
                <a:solidFill>
                  <a:srgbClr val="ff0000"/>
                </a:solidFill>
                <a:uFillTx/>
                <a:latin typeface="Comic Sans MS"/>
                <a:ea typeface="Tahoma"/>
              </a:rPr>
              <a:t>approximate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it using the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Comic Sans MS"/>
                <a:ea typeface="Tahoma"/>
              </a:rPr>
              <a:t>Normal Distribution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0" y="2743200"/>
            <a:ext cx="91440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can use the Normal Distribution to approximate Binomial probabilities w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very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is NOT extreme (not too close to 0 or 1) – so distribution is  symmetrical, not ske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HECK: The conditions that ensure this are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oth 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 ar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584208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** NOTE: The Normal approximation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requires a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           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Cor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We can’t calculate this using the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Binomial Distribution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with either our tables or G.C. as neither stores probabilities for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n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values this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But… we can </a:t>
            </a:r>
            <a:r>
              <a:rPr b="1" i="1" lang="en-NZ" sz="2400" spc="-1" strike="noStrike" u="sng">
                <a:solidFill>
                  <a:srgbClr val="ff0000"/>
                </a:solidFill>
                <a:uFillTx/>
                <a:latin typeface="Comic Sans MS"/>
                <a:ea typeface="Tahoma"/>
              </a:rPr>
              <a:t>approximate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it using the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Comic Sans MS"/>
                <a:ea typeface="Tahoma"/>
              </a:rPr>
              <a:t>Normal Distribution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3"/>
          <p:cNvSpPr/>
          <p:nvPr/>
        </p:nvSpPr>
        <p:spPr>
          <a:xfrm>
            <a:off x="0" y="1752480"/>
            <a:ext cx="9144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can use the Normal Distribution to approximate Binomial probabilities w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very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is NOT extreme (not too close to 0 or 1) – so distribution is  symmetrical, not ske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HECK: The conditions that ensure this are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oth 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 ar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0" y="49528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** NOTE: The Normal approximation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requires a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           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Cor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6"/>
          <p:cNvSpPr/>
          <p:nvPr/>
        </p:nvSpPr>
        <p:spPr>
          <a:xfrm>
            <a:off x="0" y="6149880"/>
            <a:ext cx="8915400" cy="581400"/>
          </a:xfrm>
          <a:prstGeom prst="rect">
            <a:avLst/>
          </a:prstGeom>
          <a:solidFill>
            <a:srgbClr val="fffff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Normal Dist</a:t>
            </a:r>
            <a:r>
              <a:rPr b="0" lang="en-NZ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Parameters:  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  <a:ea typeface="Tahoma"/>
              </a:rPr>
              <a:t>n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Object 7"/>
              <p:cNvSpPr txBox="1"/>
              <p:nvPr/>
            </p:nvSpPr>
            <p:spPr>
              <a:xfrm>
                <a:off x="6172200" y="6149880"/>
                <a:ext cx="21607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3"/>
          <p:cNvSpPr/>
          <p:nvPr/>
        </p:nvSpPr>
        <p:spPr>
          <a:xfrm>
            <a:off x="0" y="0"/>
            <a:ext cx="914400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can use the Normal Distribution to approximate Binomial probabilities w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very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is NOT extreme (not too close to 0 or 1) – so distribution is  symmetrical, not ske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HECK: The conditions that ensure this are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oth 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 ar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5"/>
          <p:cNvSpPr/>
          <p:nvPr/>
        </p:nvSpPr>
        <p:spPr>
          <a:xfrm>
            <a:off x="36360" y="29494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** NOTE: The Normal approximation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requires a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           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Cor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6"/>
          <p:cNvSpPr/>
          <p:nvPr/>
        </p:nvSpPr>
        <p:spPr>
          <a:xfrm>
            <a:off x="0" y="3951360"/>
            <a:ext cx="8915400" cy="581400"/>
          </a:xfrm>
          <a:prstGeom prst="rect">
            <a:avLst/>
          </a:prstGeom>
          <a:solidFill>
            <a:srgbClr val="fffff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Normal Dist</a:t>
            </a:r>
            <a:r>
              <a:rPr b="0" lang="en-NZ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Parameters:  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  <a:ea typeface="Tahoma"/>
              </a:rPr>
              <a:t>n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Object 7"/>
              <p:cNvSpPr txBox="1"/>
              <p:nvPr/>
            </p:nvSpPr>
            <p:spPr>
              <a:xfrm>
                <a:off x="6248520" y="3951360"/>
                <a:ext cx="216036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94" name="Rectangle 6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3"/>
          <p:cNvSpPr/>
          <p:nvPr/>
        </p:nvSpPr>
        <p:spPr>
          <a:xfrm>
            <a:off x="0" y="0"/>
            <a:ext cx="91440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can use the Normal Distribution to approximate Binomial probabilities w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very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is NOT extreme (no too close to 0 or 1) – so distribution is  symmetrical, not ske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HECK: The conditions that ensure this are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oth 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 ar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-9360" y="28735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** NOTE: The Normal approximation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requires a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           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Cor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6"/>
          <p:cNvSpPr/>
          <p:nvPr/>
        </p:nvSpPr>
        <p:spPr>
          <a:xfrm>
            <a:off x="0" y="3932280"/>
            <a:ext cx="8915400" cy="581400"/>
          </a:xfrm>
          <a:prstGeom prst="rect">
            <a:avLst/>
          </a:prstGeom>
          <a:solidFill>
            <a:srgbClr val="fffff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Normal Dist</a:t>
            </a:r>
            <a:r>
              <a:rPr b="0" lang="en-NZ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Parameters:  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  <a:ea typeface="Tahoma"/>
              </a:rPr>
              <a:t>n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Object 7"/>
              <p:cNvSpPr txBox="1"/>
              <p:nvPr/>
            </p:nvSpPr>
            <p:spPr>
              <a:xfrm>
                <a:off x="6248520" y="3922560"/>
                <a:ext cx="21603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99" name="Rectangle 6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o to calculate the probability of getting a tail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less than 490 times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ut of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1000 coin to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Use a normal approximation with parameters 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and 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 n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 1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×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   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=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3"/>
          <p:cNvSpPr/>
          <p:nvPr/>
        </p:nvSpPr>
        <p:spPr>
          <a:xfrm>
            <a:off x="0" y="0"/>
            <a:ext cx="91440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can use the Normal Distribution to approximate Binomial probabilities w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very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is NOT extreme (not too close to 0 or 1) – so distribution is  symmetrical, not ske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HECK: The conditions that ensure this are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oth 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 ar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5"/>
          <p:cNvSpPr/>
          <p:nvPr/>
        </p:nvSpPr>
        <p:spPr>
          <a:xfrm>
            <a:off x="-9360" y="28954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** NOTE: The Normal approximation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requires a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           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Cor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6"/>
          <p:cNvSpPr/>
          <p:nvPr/>
        </p:nvSpPr>
        <p:spPr>
          <a:xfrm>
            <a:off x="0" y="3932280"/>
            <a:ext cx="8915400" cy="581400"/>
          </a:xfrm>
          <a:prstGeom prst="rect">
            <a:avLst/>
          </a:prstGeom>
          <a:solidFill>
            <a:srgbClr val="fffff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Normal Dist</a:t>
            </a:r>
            <a:r>
              <a:rPr b="0" lang="en-NZ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Parameters:  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  <a:ea typeface="Tahoma"/>
              </a:rPr>
              <a:t>n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Object 7"/>
              <p:cNvSpPr txBox="1"/>
              <p:nvPr/>
            </p:nvSpPr>
            <p:spPr>
              <a:xfrm>
                <a:off x="6248520" y="3922560"/>
                <a:ext cx="21603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04" name="Rectangle 6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o to calculate the probability of getting a tail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less than 490 times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ut of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1000 coin to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Use a normal approximation with parameters 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and 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 n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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 1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×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   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=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Object 9"/>
              <p:cNvSpPr txBox="1"/>
              <p:nvPr/>
            </p:nvSpPr>
            <p:spPr>
              <a:xfrm>
                <a:off x="5181480" y="5715000"/>
                <a:ext cx="15242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"/>
          <p:cNvSpPr/>
          <p:nvPr/>
        </p:nvSpPr>
        <p:spPr>
          <a:xfrm>
            <a:off x="0" y="0"/>
            <a:ext cx="914400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can use the Normal Distribution to approximate Binomial probabilities w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very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is NOT extreme (not too close to 0 or 1) – so distribution is  symmetrical, not ske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HECK: The conditions that ensure this are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oth 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 ar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5"/>
          <p:cNvSpPr/>
          <p:nvPr/>
        </p:nvSpPr>
        <p:spPr>
          <a:xfrm>
            <a:off x="-17640" y="29131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** NOTE: The Normal approximation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requires a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           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Cor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6"/>
          <p:cNvSpPr/>
          <p:nvPr/>
        </p:nvSpPr>
        <p:spPr>
          <a:xfrm>
            <a:off x="0" y="3951360"/>
            <a:ext cx="8915400" cy="581400"/>
          </a:xfrm>
          <a:prstGeom prst="rect">
            <a:avLst/>
          </a:prstGeom>
          <a:solidFill>
            <a:srgbClr val="fffff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Normal Dist</a:t>
            </a:r>
            <a:r>
              <a:rPr b="0" lang="en-NZ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Parameters:  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  <a:ea typeface="Tahoma"/>
              </a:rPr>
              <a:t>n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Object 7"/>
              <p:cNvSpPr txBox="1"/>
              <p:nvPr/>
            </p:nvSpPr>
            <p:spPr>
              <a:xfrm>
                <a:off x="6248520" y="3941640"/>
                <a:ext cx="21603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10" name="Rectangle 6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o to calculate the probability of getting a tail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less than 490 times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ut of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1000 coin to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Use a normal approximation with parameters 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and 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 n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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 1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×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   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= 500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Object 9"/>
              <p:cNvSpPr txBox="1"/>
              <p:nvPr/>
            </p:nvSpPr>
            <p:spPr>
              <a:xfrm>
                <a:off x="5181480" y="5715000"/>
                <a:ext cx="15242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Object 4"/>
              <p:cNvSpPr txBox="1"/>
              <p:nvPr/>
            </p:nvSpPr>
            <p:spPr>
              <a:xfrm>
                <a:off x="5181480" y="6372360"/>
                <a:ext cx="22100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3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HECK: The conditions that ensure this are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oth 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 ar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87624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** NOTE: The Normal approximation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requires a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           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Cor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6"/>
          <p:cNvSpPr/>
          <p:nvPr/>
        </p:nvSpPr>
        <p:spPr>
          <a:xfrm>
            <a:off x="0" y="1828800"/>
            <a:ext cx="8915400" cy="581400"/>
          </a:xfrm>
          <a:prstGeom prst="rect">
            <a:avLst/>
          </a:prstGeom>
          <a:solidFill>
            <a:srgbClr val="fffff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Normal Dist</a:t>
            </a:r>
            <a:r>
              <a:rPr b="0" lang="en-NZ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Parameters:  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  <a:ea typeface="Tahoma"/>
              </a:rPr>
              <a:t>n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Object 7"/>
              <p:cNvSpPr txBox="1"/>
              <p:nvPr/>
            </p:nvSpPr>
            <p:spPr>
              <a:xfrm>
                <a:off x="6172200" y="1787400"/>
                <a:ext cx="21607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17" name="Rectangle 6"/>
          <p:cNvSpPr/>
          <p:nvPr/>
        </p:nvSpPr>
        <p:spPr>
          <a:xfrm>
            <a:off x="0" y="2590920"/>
            <a:ext cx="91440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o to calculate the probability of getting a tail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less than 490 times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ut of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1000 coin to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Use a normal approximation with parameters 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and 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 n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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 1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×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 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 500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15.81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So the expected number of tails in 1000 throws is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Tahoma"/>
              </a:rPr>
              <a:t>500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 with a standard deviation of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Tahoma"/>
              </a:rPr>
              <a:t>15.8114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8" name="Object 9"/>
              <p:cNvSpPr txBox="1"/>
              <p:nvPr/>
            </p:nvSpPr>
            <p:spPr>
              <a:xfrm>
                <a:off x="5105520" y="3809880"/>
                <a:ext cx="15238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Object 4"/>
              <p:cNvSpPr txBox="1"/>
              <p:nvPr/>
            </p:nvSpPr>
            <p:spPr>
              <a:xfrm>
                <a:off x="5105520" y="4467240"/>
                <a:ext cx="22096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6"/>
          <p:cNvSpPr/>
          <p:nvPr/>
        </p:nvSpPr>
        <p:spPr>
          <a:xfrm>
            <a:off x="0" y="228600"/>
            <a:ext cx="8915400" cy="581400"/>
          </a:xfrm>
          <a:prstGeom prst="rect">
            <a:avLst/>
          </a:prstGeom>
          <a:solidFill>
            <a:srgbClr val="fffff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Normal Dist</a:t>
            </a:r>
            <a:r>
              <a:rPr b="0" lang="en-NZ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Parameters:  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  <a:ea typeface="Tahoma"/>
              </a:rPr>
              <a:t>n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1" name="Object 7"/>
              <p:cNvSpPr txBox="1"/>
              <p:nvPr/>
            </p:nvSpPr>
            <p:spPr>
              <a:xfrm>
                <a:off x="6172200" y="228600"/>
                <a:ext cx="21607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22" name="Rectangle 6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o to calculate the probability of getting a tail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less than 490 times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ut of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1000 coin to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Use a normal approximation with parameters 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and 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 n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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 1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×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 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 500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15.81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So the expected number of tails in 1000 throws is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Tahoma"/>
              </a:rPr>
              <a:t>500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with a standard deviation of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Tahoma"/>
              </a:rPr>
              <a:t>15.8114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ff"/>
                </a:solidFill>
                <a:latin typeface="Comic Sans MS"/>
                <a:ea typeface="Tahoma"/>
              </a:rPr>
              <a:t>P(X </a:t>
            </a:r>
            <a:r>
              <a:rPr b="1" lang="en-NZ" sz="2100" spc="-1" strike="noStrike">
                <a:solidFill>
                  <a:srgbClr val="0000ff"/>
                </a:solidFill>
                <a:latin typeface="Tahoma"/>
                <a:ea typeface="Tahoma"/>
              </a:rPr>
              <a:t>&lt;</a:t>
            </a:r>
            <a:r>
              <a:rPr b="0" lang="en-NZ" sz="2100" spc="-1" strike="noStrike">
                <a:solidFill>
                  <a:srgbClr val="0000ff"/>
                </a:solidFill>
                <a:latin typeface="Comic Sans MS"/>
                <a:ea typeface="Tahoma"/>
              </a:rPr>
              <a:t> 490)</a:t>
            </a:r>
            <a:r>
              <a:rPr b="0" lang="en-NZ" sz="21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NZ" sz="21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≈</a:t>
            </a:r>
            <a:r>
              <a:rPr b="0" lang="en-NZ" sz="21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P(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?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)      (using continuity correctio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Object 9"/>
              <p:cNvSpPr txBox="1"/>
              <p:nvPr/>
            </p:nvSpPr>
            <p:spPr>
              <a:xfrm>
                <a:off x="5105520" y="2362320"/>
                <a:ext cx="15238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Object 4"/>
              <p:cNvSpPr txBox="1"/>
              <p:nvPr/>
            </p:nvSpPr>
            <p:spPr>
              <a:xfrm>
                <a:off x="5105520" y="3019320"/>
                <a:ext cx="220968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6"/>
          <p:cNvSpPr/>
          <p:nvPr/>
        </p:nvSpPr>
        <p:spPr>
          <a:xfrm>
            <a:off x="0" y="228600"/>
            <a:ext cx="8915400" cy="581400"/>
          </a:xfrm>
          <a:prstGeom prst="rect">
            <a:avLst/>
          </a:prstGeom>
          <a:solidFill>
            <a:srgbClr val="fffff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Normal Dist</a:t>
            </a:r>
            <a:r>
              <a:rPr b="0" lang="en-NZ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Parameters:  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  <a:ea typeface="Tahoma"/>
              </a:rPr>
              <a:t>n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6" name="Object 7"/>
              <p:cNvSpPr txBox="1"/>
              <p:nvPr/>
            </p:nvSpPr>
            <p:spPr>
              <a:xfrm>
                <a:off x="6172200" y="228600"/>
                <a:ext cx="21607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27" name="Rectangle 6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o to calculate the probability of getting a tail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less than 490 times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ut of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1000 coin to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Use a normal approximation with parameters 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and 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 n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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 1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×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 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 500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15.81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So the expected number of tails in 1000 throws is 500 with a standard deviation of 15.81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ff"/>
                </a:solidFill>
                <a:latin typeface="Comic Sans MS"/>
                <a:ea typeface="Tahoma"/>
              </a:rPr>
              <a:t>P(X </a:t>
            </a:r>
            <a:r>
              <a:rPr b="1" lang="en-NZ" sz="2100" spc="-1" strike="noStrike">
                <a:solidFill>
                  <a:srgbClr val="0000ff"/>
                </a:solidFill>
                <a:latin typeface="Tahoma"/>
                <a:ea typeface="Tahoma"/>
              </a:rPr>
              <a:t>&lt;</a:t>
            </a:r>
            <a:r>
              <a:rPr b="0" lang="en-NZ" sz="2100" spc="-1" strike="noStrike">
                <a:solidFill>
                  <a:srgbClr val="0000ff"/>
                </a:solidFill>
                <a:latin typeface="Comic Sans MS"/>
                <a:ea typeface="Tahoma"/>
              </a:rPr>
              <a:t> 490)</a:t>
            </a:r>
            <a:r>
              <a:rPr b="0" lang="en-NZ" sz="21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NZ" sz="21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≈</a:t>
            </a:r>
            <a:r>
              <a:rPr b="0" lang="en-NZ" sz="21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NZ" sz="21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 P(X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ahoma"/>
              </a:rPr>
              <a:t>&lt;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 489.5)    </a:t>
            </a:r>
            <a:r>
              <a:rPr b="0" i="1" lang="en-NZ" sz="2400" spc="-1" strike="noStrike">
                <a:solidFill>
                  <a:srgbClr val="ff0000"/>
                </a:solidFill>
                <a:latin typeface="Tahoma"/>
                <a:ea typeface="Tahoma"/>
              </a:rPr>
              <a:t>(using continuity cor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8" name="Object 9"/>
              <p:cNvSpPr txBox="1"/>
              <p:nvPr/>
            </p:nvSpPr>
            <p:spPr>
              <a:xfrm>
                <a:off x="5105520" y="2362320"/>
                <a:ext cx="15238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9" name="Object 4"/>
              <p:cNvSpPr txBox="1"/>
              <p:nvPr/>
            </p:nvSpPr>
            <p:spPr>
              <a:xfrm>
                <a:off x="5105520" y="3019320"/>
                <a:ext cx="220968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o to calculate the probability of getting a tail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less than 490 times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ut of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1000 coin to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Use a normal approximation with parameters 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and 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 n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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 1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×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 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 500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15.81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So the expected number of tails in 1000 throws is 500 with a standard deviation of 15.81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ff"/>
                </a:solidFill>
                <a:latin typeface="Comic Sans MS"/>
                <a:ea typeface="Tahoma"/>
              </a:rPr>
              <a:t>P(X </a:t>
            </a:r>
            <a:r>
              <a:rPr b="1" lang="en-NZ" sz="2100" spc="-1" strike="noStrike">
                <a:solidFill>
                  <a:srgbClr val="0000ff"/>
                </a:solidFill>
                <a:latin typeface="Tahoma"/>
                <a:ea typeface="Tahoma"/>
              </a:rPr>
              <a:t>&lt;</a:t>
            </a:r>
            <a:r>
              <a:rPr b="0" lang="en-NZ" sz="2100" spc="-1" strike="noStrike">
                <a:solidFill>
                  <a:srgbClr val="0000ff"/>
                </a:solidFill>
                <a:latin typeface="Comic Sans MS"/>
                <a:ea typeface="Tahoma"/>
              </a:rPr>
              <a:t> 490)</a:t>
            </a:r>
            <a:r>
              <a:rPr b="0" lang="en-NZ" sz="21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≈</a:t>
            </a:r>
            <a:r>
              <a:rPr b="0" lang="en-NZ" sz="21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NZ" sz="21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 P(X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ahoma"/>
              </a:rPr>
              <a:t>&lt;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 489.5)    </a:t>
            </a:r>
            <a:r>
              <a:rPr b="0" i="1" lang="en-NZ" sz="2400" spc="-1" strike="noStrike">
                <a:solidFill>
                  <a:srgbClr val="ff0000"/>
                </a:solidFill>
                <a:latin typeface="Tahoma"/>
                <a:ea typeface="Tahoma"/>
              </a:rPr>
              <a:t>(using continuity cor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≈ 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P(Z  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ahoma"/>
              </a:rPr>
              <a:t>&lt;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  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Comic Sans MS"/>
                <a:ea typeface="Tahoma"/>
              </a:rPr>
              <a:t>489.5 – 500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                           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15.8114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Comic Sans MS"/>
                <a:ea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00" spc="-1" strike="noStrike">
                <a:solidFill>
                  <a:srgbClr val="ff0000"/>
                </a:solidFill>
                <a:latin typeface="Comic Sans MS"/>
                <a:ea typeface="Tahoma"/>
              </a:rPr>
              <a:t>	</a:t>
            </a:r>
            <a:r>
              <a:rPr b="0" lang="en-NZ" sz="900" spc="-1" strike="noStrike">
                <a:solidFill>
                  <a:srgbClr val="ff0000"/>
                </a:solidFill>
                <a:latin typeface="Comic Sans MS"/>
                <a:ea typeface="Tahom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≈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0.2533 (4sf) 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1" name="Object 9"/>
              <p:cNvSpPr txBox="1"/>
              <p:nvPr/>
            </p:nvSpPr>
            <p:spPr>
              <a:xfrm>
                <a:off x="5105520" y="1219320"/>
                <a:ext cx="152388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2" name="Object 4"/>
              <p:cNvSpPr txBox="1"/>
              <p:nvPr/>
            </p:nvSpPr>
            <p:spPr>
              <a:xfrm>
                <a:off x="5105520" y="1876320"/>
                <a:ext cx="25146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33" name="Rectangle 6"/>
          <p:cNvSpPr/>
          <p:nvPr/>
        </p:nvSpPr>
        <p:spPr>
          <a:xfrm>
            <a:off x="380880" y="228600"/>
            <a:ext cx="8458200" cy="1371600"/>
          </a:xfrm>
          <a:prstGeom prst="rect">
            <a:avLst/>
          </a:prstGeom>
          <a:solidFill>
            <a:srgbClr val="ffffcc"/>
          </a:solidFill>
          <a:ln w="92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 old Sigma (2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ed): Pg. 118 – Ex. 8.1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0000"/>
                </a:solidFill>
                <a:latin typeface="Arial"/>
              </a:rPr>
              <a:t>Complete for H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1"/>
          <p:cNvSpPr/>
          <p:nvPr/>
        </p:nvSpPr>
        <p:spPr>
          <a:xfrm>
            <a:off x="6197760" y="5638680"/>
            <a:ext cx="2971800" cy="1054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mic Sans MS"/>
              </a:rPr>
              <a:t>So 490 tails would be just above the </a:t>
            </a:r>
            <a:r>
              <a:rPr b="1" lang="en-NZ" sz="2100" spc="-1" strike="noStrike">
                <a:solidFill>
                  <a:srgbClr val="000000"/>
                </a:solidFill>
                <a:latin typeface="Comic Sans MS"/>
              </a:rPr>
              <a:t>lower quarti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remy Brocklehurst</dc:creator>
  <dc:description/>
  <dc:language>en-US</dc:language>
  <cp:lastModifiedBy>Jeremy Brocklehurst</cp:lastModifiedBy>
  <dcterms:modified xsi:type="dcterms:W3CDTF">2011-07-10T10:53:05Z</dcterms:modified>
  <cp:revision>1582</cp:revision>
  <dc:subject>Year 13 SAM</dc:subject>
  <dc:title>Probability Distribu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